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10.wmf" ContentType="image/x-wmf"/>
  <Override PartName="/ppt/media/image6.jpeg" ContentType="image/jpeg"/>
  <Override PartName="/ppt/media/image7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</p:sldIdLst>
  <p:sldSz cx="9144000" cy="6858000"/>
  <p:notesSz cx="6858000" cy="9144000"/>
  <p:custShowLst>
    <p:custShow name="Brief UbD 4/00" id="0">
      <p:sldLst>
        <p:sld r:id="rId3"/>
        <p:sld r:id="rId4"/>
        <p:sld r:id="rId6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520" y="218880"/>
            <a:ext cx="7758000" cy="115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0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7560" y="1676520"/>
            <a:ext cx="7986960" cy="200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a50021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7560" y="3870720"/>
            <a:ext cx="7986960" cy="200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a50021"/>
              </a:solidFill>
              <a:latin typeface="Book Antiqu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3520" y="218880"/>
            <a:ext cx="7758000" cy="115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0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47560" y="1676520"/>
            <a:ext cx="3897360" cy="200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a50021"/>
              </a:solidFill>
              <a:latin typeface="Book Antiqu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40040" y="1676520"/>
            <a:ext cx="3897360" cy="200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a50021"/>
              </a:solidFill>
              <a:latin typeface="Book Antiqu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47560" y="3870720"/>
            <a:ext cx="3897360" cy="200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a50021"/>
              </a:solidFill>
              <a:latin typeface="Book Antiqu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40040" y="3870720"/>
            <a:ext cx="3897360" cy="200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a50021"/>
              </a:solidFill>
              <a:latin typeface="Book Antiqu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33520" y="218880"/>
            <a:ext cx="7758000" cy="115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0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47560" y="1676520"/>
            <a:ext cx="2571480" cy="200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a50021"/>
              </a:solidFill>
              <a:latin typeface="Book Antiqu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47920" y="1676520"/>
            <a:ext cx="2571480" cy="200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a50021"/>
              </a:solidFill>
              <a:latin typeface="Book Antiqu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8280" y="1676520"/>
            <a:ext cx="2571480" cy="200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a50021"/>
              </a:solidFill>
              <a:latin typeface="Book Antiqu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47560" y="3870720"/>
            <a:ext cx="2571480" cy="200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a50021"/>
              </a:solidFill>
              <a:latin typeface="Book Antiqu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47920" y="3870720"/>
            <a:ext cx="2571480" cy="200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a50021"/>
              </a:solidFill>
              <a:latin typeface="Book Antiqu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8280" y="3870720"/>
            <a:ext cx="2571480" cy="200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a50021"/>
              </a:solidFill>
              <a:latin typeface="Book Antiqu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520" y="218880"/>
            <a:ext cx="7758000" cy="115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0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47560" y="1676520"/>
            <a:ext cx="7986960" cy="420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a50021"/>
              </a:solidFill>
              <a:latin typeface="Book Antiqu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520" y="218880"/>
            <a:ext cx="7758000" cy="115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0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47560" y="1676520"/>
            <a:ext cx="7986960" cy="420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a50021"/>
              </a:solidFill>
              <a:latin typeface="Book Antiqu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520" y="218880"/>
            <a:ext cx="7758000" cy="115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0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47560" y="1676520"/>
            <a:ext cx="3897360" cy="420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a50021"/>
              </a:solidFill>
              <a:latin typeface="Book Antiqu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40040" y="1676520"/>
            <a:ext cx="3897360" cy="420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a50021"/>
              </a:solidFill>
              <a:latin typeface="Book Antiqu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520" y="218880"/>
            <a:ext cx="7758000" cy="115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0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533520" y="218880"/>
            <a:ext cx="7758000" cy="53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a50021"/>
              </a:solidFill>
              <a:latin typeface="Book Antiqu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33520" y="218880"/>
            <a:ext cx="7758000" cy="115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0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47560" y="1676520"/>
            <a:ext cx="3897360" cy="200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a50021"/>
              </a:solidFill>
              <a:latin typeface="Book Antiqu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40040" y="1676520"/>
            <a:ext cx="3897360" cy="420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a50021"/>
              </a:solidFill>
              <a:latin typeface="Book Antiqu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47560" y="3870720"/>
            <a:ext cx="3897360" cy="200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a50021"/>
              </a:solidFill>
              <a:latin typeface="Book Antiqu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218880"/>
            <a:ext cx="7758000" cy="115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0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47560" y="1676520"/>
            <a:ext cx="3897360" cy="420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a50021"/>
              </a:solidFill>
              <a:latin typeface="Book Antiqu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40040" y="1676520"/>
            <a:ext cx="3897360" cy="200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a50021"/>
              </a:solidFill>
              <a:latin typeface="Book Antiqu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40040" y="3870720"/>
            <a:ext cx="3897360" cy="200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a50021"/>
              </a:solidFill>
              <a:latin typeface="Book Antiqu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3520" y="218880"/>
            <a:ext cx="7758000" cy="115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0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47560" y="1676520"/>
            <a:ext cx="3897360" cy="200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a50021"/>
              </a:solidFill>
              <a:latin typeface="Book Antiqu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40040" y="1676520"/>
            <a:ext cx="3897360" cy="200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a50021"/>
              </a:solidFill>
              <a:latin typeface="Book Antiqu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47560" y="3870720"/>
            <a:ext cx="7986960" cy="200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a50021"/>
              </a:solidFill>
              <a:latin typeface="Book Antiqu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31040" cy="6845040"/>
            <a:chOff x="0" y="0"/>
            <a:chExt cx="9131040" cy="684504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31040" cy="68450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610480" cy="632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455760" y="1317600"/>
            <a:ext cx="8669160" cy="85680"/>
          </a:xfrm>
          <a:prstGeom prst="rect">
            <a:avLst/>
          </a:prstGeom>
          <a:gradFill rotWithShape="0">
            <a:gsLst>
              <a:gs pos="0">
                <a:srgbClr val="2e4fac"/>
              </a:gs>
              <a:gs pos="100000">
                <a:srgbClr val="4474f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520" y="218880"/>
            <a:ext cx="7758000" cy="115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0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040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47560" y="1676520"/>
            <a:ext cx="7986960" cy="420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a50021"/>
                </a:solidFill>
                <a:latin typeface="Book Antiqua"/>
              </a:rPr>
              <a:t>Click to edit the outline text format</a:t>
            </a:r>
            <a:endParaRPr b="1" i="1" lang="en-US" sz="3600" spc="-1" strike="noStrike">
              <a:solidFill>
                <a:srgbClr val="a50021"/>
              </a:solidFill>
              <a:latin typeface="Book Antiqua"/>
            </a:endParaRPr>
          </a:p>
          <a:p>
            <a:pPr lvl="1" marL="673920" indent="-262440" algn="ctr">
              <a:spcBef>
                <a:spcPts val="901"/>
              </a:spcBef>
              <a:buClr>
                <a:srgbClr val="0000ff"/>
              </a:buClr>
              <a:buSzPct val="75000"/>
              <a:buFont typeface="Monotype Sort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a50021"/>
                </a:solidFill>
                <a:latin typeface="Book Antiqua"/>
              </a:rPr>
              <a:t>Second Outline Level</a:t>
            </a:r>
            <a:endParaRPr b="1" i="1" lang="en-US" sz="3600" spc="-1" strike="noStrike">
              <a:solidFill>
                <a:srgbClr val="a50021"/>
              </a:solidFill>
              <a:latin typeface="Book Antiqua"/>
            </a:endParaRPr>
          </a:p>
          <a:p>
            <a:pPr lvl="2" marL="1028520" indent="-205560" algn="ctr">
              <a:spcBef>
                <a:spcPts val="901"/>
              </a:spcBef>
              <a:buClr>
                <a:srgbClr val="0000ff"/>
              </a:buClr>
              <a:buSzPct val="65000"/>
              <a:buFont typeface="Monotype Sorts" charset="2"/>
              <a:buChar char="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a50021"/>
                </a:solidFill>
                <a:latin typeface="Book Antiqua"/>
              </a:rPr>
              <a:t>Third Outline Level</a:t>
            </a:r>
            <a:endParaRPr b="1" i="1" lang="en-US" sz="3600" spc="-1" strike="noStrike">
              <a:solidFill>
                <a:srgbClr val="a50021"/>
              </a:solidFill>
              <a:latin typeface="Book Antiqua"/>
            </a:endParaRPr>
          </a:p>
          <a:p>
            <a:pPr lvl="3" marL="1440000" indent="-205560" algn="ctr">
              <a:spcBef>
                <a:spcPts val="901"/>
              </a:spcBef>
              <a:buClr>
                <a:srgbClr val="114ffb"/>
              </a:buClr>
              <a:buSzPct val="65000"/>
              <a:buFont typeface="Monotype Sort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a50021"/>
                </a:solidFill>
                <a:latin typeface="Book Antiqua"/>
              </a:rPr>
              <a:t>Fourth Outline Level</a:t>
            </a:r>
            <a:endParaRPr b="1" i="1" lang="en-US" sz="3600" spc="-1" strike="noStrike">
              <a:solidFill>
                <a:srgbClr val="a50021"/>
              </a:solidFill>
              <a:latin typeface="Book Antiqua"/>
            </a:endParaRPr>
          </a:p>
          <a:p>
            <a:pPr lvl="4" marL="1851480" indent="-205560" algn="ctr">
              <a:spcBef>
                <a:spcPts val="901"/>
              </a:spcBef>
              <a:buClr>
                <a:srgbClr val="0000ff"/>
              </a:buClr>
              <a:buSzPct val="65000"/>
              <a:buFont typeface="Monotype Sorts" charset="2"/>
              <a:buChar char="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a50021"/>
                </a:solidFill>
                <a:latin typeface="Book Antiqua"/>
              </a:rPr>
              <a:t>Fifth Outline Level</a:t>
            </a:r>
            <a:endParaRPr b="1" i="1" lang="en-US" sz="3600" spc="-1" strike="noStrike">
              <a:solidFill>
                <a:srgbClr val="a50021"/>
              </a:solidFill>
              <a:latin typeface="Book Antiqua"/>
            </a:endParaRPr>
          </a:p>
          <a:p>
            <a:pPr lvl="5" marL="1851480" indent="-205560" algn="ctr">
              <a:spcBef>
                <a:spcPts val="901"/>
              </a:spcBef>
              <a:buClr>
                <a:srgbClr val="000000"/>
              </a:buClr>
              <a:buSzPct val="65000"/>
              <a:buFont typeface="Monotype Sorts" charset="2"/>
              <a:buChar char="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a50021"/>
                </a:solidFill>
                <a:latin typeface="Book Antiqua"/>
              </a:rPr>
              <a:t>Sixth Outline Level</a:t>
            </a:r>
            <a:endParaRPr b="1" i="1" lang="en-US" sz="3600" spc="-1" strike="noStrike">
              <a:solidFill>
                <a:srgbClr val="a50021"/>
              </a:solidFill>
              <a:latin typeface="Book Antiqua"/>
            </a:endParaRPr>
          </a:p>
          <a:p>
            <a:pPr lvl="6" marL="1851480" indent="-205560" algn="ctr">
              <a:spcBef>
                <a:spcPts val="901"/>
              </a:spcBef>
              <a:buClr>
                <a:srgbClr val="000000"/>
              </a:buClr>
              <a:buSzPct val="65000"/>
              <a:buFont typeface="Monotype Sorts" charset="2"/>
              <a:buChar char="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a50021"/>
                </a:solidFill>
                <a:latin typeface="Book Antiqua"/>
              </a:rPr>
              <a:t>Seventh Outline Level</a:t>
            </a:r>
            <a:endParaRPr b="1" i="1" lang="en-US" sz="3600" spc="-1" strike="noStrike">
              <a:solidFill>
                <a:srgbClr val="a50021"/>
              </a:solidFill>
              <a:latin typeface="Book Antiqua"/>
            </a:endParaRPr>
          </a:p>
        </p:txBody>
      </p:sp>
      <p:sp>
        <p:nvSpPr>
          <p:cNvPr id="6" name=""/>
          <p:cNvSpPr/>
          <p:nvPr/>
        </p:nvSpPr>
        <p:spPr>
          <a:xfrm>
            <a:off x="0" y="6477120"/>
            <a:ext cx="91440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Times New Roman"/>
              </a:rPr>
              <a:t>© 2002 Grant Wiggins &amp; Jay McTighe</a:t>
            </a:r>
            <a:r>
              <a:rPr b="0" lang="en-US" sz="1400" spc="-1" strike="noStrike">
                <a:solidFill>
                  <a:srgbClr val="777777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777777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777777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777777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777777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777777"/>
                </a:solidFill>
                <a:latin typeface="Times New Roman"/>
              </a:rPr>
              <a:t>          </a:t>
            </a:r>
            <a:r>
              <a:rPr b="0" lang="en-US" sz="1600" spc="-1" strike="noStrike">
                <a:solidFill>
                  <a:srgbClr val="777777"/>
                </a:solidFill>
                <a:latin typeface="Times New Roman"/>
              </a:rPr>
              <a:t>UBD 0</a:t>
            </a:r>
            <a:r>
              <a:rPr b="1" lang="en-US" sz="1600" spc="-1" strike="noStrike">
                <a:solidFill>
                  <a:srgbClr val="777777"/>
                </a:solidFill>
                <a:latin typeface="Times New Roman"/>
              </a:rPr>
              <a:t>8/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57200" y="6418440"/>
            <a:ext cx="81583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6927B-B913-4D99-B6DB-7086FB955A6A}" type="slidenum"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hyperlink" Target="file:///GW%20iBook/Desktop%20Folder/Straw%20Building" TargetMode="External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hyperlink" Target="http://www.cloquet.k12.mn.us/UBD%2011%2F12%2F99/Portfolios%2099" TargetMode="External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hyperlink" Target="http://www.cloquet.k12.mn.us/UBD%2011%2F12%2F99/Portfolios%2099" TargetMode="External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hyperlink" Target="http://www.cloquet.k12.mn.us/UBD%2011%2F12%2F99/Portfolios%2099" TargetMode="External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hyperlink" Target="http://www.cloquet.k12.mn.us/UBD%2011%2F12%2F99/Portfolios%2099" TargetMode="External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3520" y="218880"/>
            <a:ext cx="7758000" cy="115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0ff"/>
                </a:solidFill>
                <a:latin typeface="Arial"/>
              </a:rPr>
              <a:t>Understanding by Design</a:t>
            </a:r>
            <a:endParaRPr b="0" lang="en-US" sz="4400" spc="-1" strike="noStrike">
              <a:solidFill>
                <a:srgbClr val="4040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47560" y="1676520"/>
            <a:ext cx="7986960" cy="420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1" i="1" lang="en-US" sz="3600" spc="-1" strike="noStrike">
              <a:solidFill>
                <a:srgbClr val="a50021"/>
              </a:solidFill>
              <a:latin typeface="Book Antiqua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6019920" y="4599000"/>
          <a:ext cx="2743200" cy="1801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7" name="" descr="">
                    <a:hlinkClick r:id="rId3"/>
                  </p:cNvPr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19920" y="4599000"/>
                    <a:ext cx="2743200" cy="180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"/>
          <p:cNvSpPr/>
          <p:nvPr/>
        </p:nvSpPr>
        <p:spPr>
          <a:xfrm>
            <a:off x="914400" y="1600200"/>
            <a:ext cx="76201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800000"/>
                </a:solidFill>
                <a:latin typeface="Book Antiqua"/>
              </a:rPr>
              <a:t>the ‘big ideas’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800000"/>
                </a:solidFill>
                <a:latin typeface="Book Antiqua"/>
              </a:rPr>
              <a:t>of UbD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33520" y="218880"/>
            <a:ext cx="8610480" cy="115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0ff"/>
                </a:solidFill>
                <a:latin typeface="Arial"/>
              </a:rPr>
              <a:t>The big ideas provide a way to connect and recall knowledge</a:t>
            </a:r>
            <a:endParaRPr b="0" lang="en-US" sz="4400" spc="-1" strike="noStrike">
              <a:solidFill>
                <a:srgbClr val="4040ff"/>
              </a:solidFill>
              <a:latin typeface="Arial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3352680" y="1447920"/>
            <a:ext cx="2286000" cy="1371600"/>
            <a:chOff x="3352680" y="1447920"/>
            <a:chExt cx="2286000" cy="1371600"/>
          </a:xfrm>
        </p:grpSpPr>
        <p:sp>
          <p:nvSpPr>
            <p:cNvPr id="219" name=""/>
            <p:cNvSpPr/>
            <p:nvPr/>
          </p:nvSpPr>
          <p:spPr>
            <a:xfrm>
              <a:off x="3352680" y="1447920"/>
              <a:ext cx="2286000" cy="13716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428640" y="1721880"/>
              <a:ext cx="20574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Times New Roman"/>
                </a:rPr>
                <a:t>The Parallel postulat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80880" y="2057400"/>
            <a:ext cx="2286000" cy="1447920"/>
            <a:chOff x="380880" y="2057400"/>
            <a:chExt cx="2286000" cy="1447920"/>
          </a:xfrm>
        </p:grpSpPr>
        <p:sp>
          <p:nvSpPr>
            <p:cNvPr id="222" name=""/>
            <p:cNvSpPr/>
            <p:nvPr/>
          </p:nvSpPr>
          <p:spPr>
            <a:xfrm>
              <a:off x="380880" y="2057400"/>
              <a:ext cx="2286000" cy="14479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56840" y="2372400"/>
              <a:ext cx="20574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Times New Roman"/>
                </a:rPr>
                <a:t>S.A.S. Congruenc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4" name=""/>
          <p:cNvSpPr/>
          <p:nvPr/>
        </p:nvSpPr>
        <p:spPr>
          <a:xfrm>
            <a:off x="76320" y="4229280"/>
            <a:ext cx="2286000" cy="17143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04920" y="493560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A</a:t>
            </a:r>
            <a:r>
              <a:rPr b="1" lang="en-US" sz="2800" spc="-1" strike="noStrike" baseline="30000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+ B</a:t>
            </a:r>
            <a:r>
              <a:rPr b="1" lang="en-US" sz="2800" spc="-1" strike="noStrike" baseline="30000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= C</a:t>
            </a:r>
            <a:r>
              <a:rPr b="1" lang="en-US" sz="2800" spc="-1" strike="noStrike" baseline="30000">
                <a:solidFill>
                  <a:srgbClr val="0000ff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5943600" y="2209680"/>
            <a:ext cx="2666880" cy="1447920"/>
            <a:chOff x="5943600" y="2209680"/>
            <a:chExt cx="2666880" cy="1447920"/>
          </a:xfrm>
        </p:grpSpPr>
        <p:sp>
          <p:nvSpPr>
            <p:cNvPr id="227" name=""/>
            <p:cNvSpPr/>
            <p:nvPr/>
          </p:nvSpPr>
          <p:spPr>
            <a:xfrm flipV="1">
              <a:off x="5943600" y="3352320"/>
              <a:ext cx="60948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324480" y="2209680"/>
              <a:ext cx="2286000" cy="14479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400800" y="2525400"/>
              <a:ext cx="20574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Like rules of a gam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6324480" y="4762440"/>
            <a:ext cx="2590560" cy="1447920"/>
            <a:chOff x="6324480" y="4762440"/>
            <a:chExt cx="2590560" cy="1447920"/>
          </a:xfrm>
        </p:grpSpPr>
        <p:sp>
          <p:nvSpPr>
            <p:cNvPr id="231" name=""/>
            <p:cNvSpPr/>
            <p:nvPr/>
          </p:nvSpPr>
          <p:spPr>
            <a:xfrm>
              <a:off x="6324480" y="5524560"/>
              <a:ext cx="380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629040" y="4762440"/>
              <a:ext cx="2286000" cy="14479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705360" y="5078160"/>
              <a:ext cx="20574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3300"/>
                  </a:solidFill>
                  <a:latin typeface="Times New Roman"/>
                </a:rPr>
                <a:t>Like Bill of Righ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"/>
          <p:cNvGrpSpPr/>
          <p:nvPr/>
        </p:nvGrpSpPr>
        <p:grpSpPr>
          <a:xfrm>
            <a:off x="1828800" y="2819160"/>
            <a:ext cx="4648320" cy="3581640"/>
            <a:chOff x="1828800" y="2819160"/>
            <a:chExt cx="4648320" cy="3581640"/>
          </a:xfrm>
        </p:grpSpPr>
        <p:sp>
          <p:nvSpPr>
            <p:cNvPr id="235" name=""/>
            <p:cNvSpPr/>
            <p:nvPr/>
          </p:nvSpPr>
          <p:spPr>
            <a:xfrm>
              <a:off x="2979720" y="3299040"/>
              <a:ext cx="3421080" cy="287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a50021"/>
                  </a:solidFill>
                  <a:latin typeface="Times New Roman"/>
                </a:rPr>
                <a:t>Big Idea: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A system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of many powerful inferences from a small set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of given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743200" y="3048120"/>
              <a:ext cx="3733920" cy="3352680"/>
            </a:xfrm>
            <a:prstGeom prst="ellipse">
              <a:avLst/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flipH="1" flipV="1">
              <a:off x="1828800" y="3504960"/>
              <a:ext cx="99072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flipH="1">
              <a:off x="2362320" y="4800600"/>
              <a:ext cx="38088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 flipH="1" flipV="1">
              <a:off x="4419360" y="2819160"/>
              <a:ext cx="7596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3520" y="218880"/>
            <a:ext cx="7758000" cy="115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0ff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4040ff"/>
                </a:solidFill>
                <a:latin typeface="Arial"/>
              </a:rPr>
              <a:t>Big Ideas” are typically revealed via – </a:t>
            </a:r>
            <a:endParaRPr b="0" lang="en-US" sz="4400" spc="-1" strike="noStrike">
              <a:solidFill>
                <a:srgbClr val="4040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47560" y="1371240"/>
            <a:ext cx="798696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lvl="1" marL="389880" indent="-280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Core concepts</a:t>
            </a:r>
            <a:endParaRPr b="1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389880" indent="-280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Focusing themes</a:t>
            </a:r>
            <a:endParaRPr b="1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389880" indent="-280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On-going debates/issues</a:t>
            </a:r>
            <a:endParaRPr b="1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389880" indent="-280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Insightful perspectives</a:t>
            </a:r>
            <a:endParaRPr b="1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389880" indent="-280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Illuminating paradox/problem</a:t>
            </a:r>
            <a:endParaRPr b="1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389880" indent="-280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Organizing theory</a:t>
            </a:r>
            <a:endParaRPr b="1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389880" indent="-280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Overarching principle</a:t>
            </a:r>
            <a:endParaRPr b="1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389880" indent="-280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Underlying assumption</a:t>
            </a:r>
            <a:endParaRPr b="1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389880" indent="-280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(Key questions)</a:t>
            </a:r>
            <a:endParaRPr b="1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389880" indent="-280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(Insightful inferences from facts)</a:t>
            </a:r>
            <a:endParaRPr b="1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2" name=""/>
          <p:cNvSpPr/>
          <p:nvPr/>
        </p:nvSpPr>
        <p:spPr>
          <a:xfrm>
            <a:off x="7315200" y="6248520"/>
            <a:ext cx="457200" cy="457200"/>
          </a:xfrm>
          <a:prstGeom prst="ellipse">
            <a:avLst/>
          </a:prstGeom>
          <a:solidFill>
            <a:srgbClr val="114ff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Arial"/>
              </a:rPr>
              <a:t>U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315200" y="5562720"/>
            <a:ext cx="457200" cy="457200"/>
          </a:xfrm>
          <a:prstGeom prst="ellipse">
            <a:avLst/>
          </a:prstGeom>
          <a:solidFill>
            <a:srgbClr val="114ff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Arial"/>
              </a:rPr>
              <a:t>Q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5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33520" y="218880"/>
            <a:ext cx="7758000" cy="115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0ff"/>
                </a:solidFill>
                <a:latin typeface="Arial"/>
              </a:rPr>
              <a:t>Big Ideas in Literacy: Examples</a:t>
            </a:r>
            <a:endParaRPr b="0" lang="en-US" sz="4400" spc="-1" strike="noStrike">
              <a:solidFill>
                <a:srgbClr val="4040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75960" y="1295280"/>
            <a:ext cx="891540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lvl="1" marL="718920" indent="-280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Rational </a:t>
            </a:r>
            <a:r>
              <a:rPr b="1" lang="en-US" sz="3200" spc="-1" strike="noStrike">
                <a:solidFill>
                  <a:srgbClr val="800000"/>
                </a:solidFill>
                <a:latin typeface="Book Antiqua"/>
              </a:rPr>
              <a:t>persuasion 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(vs. </a:t>
            </a:r>
            <a:r>
              <a:rPr b="1" lang="en-US" sz="3200" spc="-1" strike="noStrike">
                <a:solidFill>
                  <a:srgbClr val="800000"/>
                </a:solidFill>
                <a:latin typeface="Book Antiqua"/>
              </a:rPr>
              <a:t>manipulation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)</a:t>
            </a:r>
            <a:endParaRPr b="1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18920" indent="-280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Book Antiqua"/>
              </a:rPr>
              <a:t>audience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 and </a:t>
            </a:r>
            <a:r>
              <a:rPr b="1" lang="en-US" sz="3200" spc="-1" strike="noStrike">
                <a:solidFill>
                  <a:srgbClr val="800000"/>
                </a:solidFill>
                <a:latin typeface="Book Antiqua"/>
              </a:rPr>
              <a:t>purpose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 in writing</a:t>
            </a:r>
            <a:endParaRPr b="1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18920" indent="-280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A </a:t>
            </a:r>
            <a:r>
              <a:rPr b="1" lang="en-US" sz="3200" spc="-1" strike="noStrike">
                <a:solidFill>
                  <a:srgbClr val="800000"/>
                </a:solidFill>
                <a:latin typeface="Book Antiqua"/>
              </a:rPr>
              <a:t>story,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 as opposed to merely a list of events linked by “and then…”</a:t>
            </a:r>
            <a:endParaRPr b="1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18920" indent="-280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reading </a:t>
            </a:r>
            <a:r>
              <a:rPr b="1" lang="en-US" sz="3200" spc="-1" strike="noStrike">
                <a:solidFill>
                  <a:srgbClr val="800000"/>
                </a:solidFill>
                <a:latin typeface="Book Antiqua"/>
              </a:rPr>
              <a:t>between the lines</a:t>
            </a:r>
            <a:endParaRPr b="1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18920" indent="-280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writing as </a:t>
            </a:r>
            <a:r>
              <a:rPr b="1" lang="en-US" sz="3200" spc="-1" strike="noStrike">
                <a:solidFill>
                  <a:srgbClr val="800000"/>
                </a:solidFill>
                <a:latin typeface="Book Antiqua"/>
              </a:rPr>
              <a:t>revision</a:t>
            </a:r>
            <a:endParaRPr b="1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18920" indent="-280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a </a:t>
            </a:r>
            <a:r>
              <a:rPr b="1" lang="en-US" sz="3200" spc="-1" strike="noStrike">
                <a:solidFill>
                  <a:srgbClr val="800000"/>
                </a:solidFill>
                <a:latin typeface="Book Antiqua"/>
              </a:rPr>
              <a:t>non-rhyming poem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 vs. prose</a:t>
            </a:r>
            <a:endParaRPr b="1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18920" indent="-280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fiction as a </a:t>
            </a:r>
            <a:r>
              <a:rPr b="1" lang="en-US" sz="3200" spc="-1" strike="noStrike">
                <a:solidFill>
                  <a:srgbClr val="800000"/>
                </a:solidFill>
                <a:latin typeface="Book Antiqua"/>
              </a:rPr>
              <a:t>window into truth</a:t>
            </a:r>
            <a:endParaRPr b="1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18920" indent="-280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A </a:t>
            </a:r>
            <a:r>
              <a:rPr b="1" lang="en-US" sz="3200" spc="-1" strike="noStrike">
                <a:solidFill>
                  <a:srgbClr val="800000"/>
                </a:solidFill>
                <a:latin typeface="Book Antiqua"/>
              </a:rPr>
              <a:t>critical yet empathetic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 reader</a:t>
            </a:r>
            <a:endParaRPr b="1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18920" indent="-280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A writer’s </a:t>
            </a:r>
            <a:r>
              <a:rPr b="1" lang="en-US" sz="3200" spc="-1" strike="noStrike">
                <a:solidFill>
                  <a:srgbClr val="800000"/>
                </a:solidFill>
                <a:latin typeface="Book Antiqua"/>
              </a:rPr>
              <a:t>voice</a:t>
            </a:r>
            <a:endParaRPr b="1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33520" y="218880"/>
            <a:ext cx="7758000" cy="115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0ff"/>
                </a:solidFill>
                <a:latin typeface="Arial"/>
              </a:rPr>
              <a:t>Some questions for identifying truly “big ideas”</a:t>
            </a:r>
            <a:endParaRPr b="0" lang="en-US" sz="4400" spc="-1" strike="noStrike">
              <a:solidFill>
                <a:srgbClr val="4040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47560" y="1523520"/>
            <a:ext cx="79869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lvl="1" marL="704160" indent="-274320">
              <a:spcBef>
                <a:spcPts val="601"/>
              </a:spcBef>
              <a:buClr>
                <a:srgbClr val="0000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Does it have many layers and nuances, not obvious to the naïve or inexperienced person? </a:t>
            </a: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04160" indent="-274320">
              <a:spcBef>
                <a:spcPts val="601"/>
              </a:spcBef>
              <a:buClr>
                <a:srgbClr val="0000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Can it yield great depth and breadth of insight into the subject? Can it be used throughout K-12? </a:t>
            </a: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04160" indent="-274320">
              <a:spcBef>
                <a:spcPts val="601"/>
              </a:spcBef>
              <a:buClr>
                <a:srgbClr val="0000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Do you have to dig deep to really understand its subtle meanings and implications even if anyone can have a surface grasp of it? </a:t>
            </a: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04160" indent="-274320">
              <a:spcBef>
                <a:spcPts val="601"/>
              </a:spcBef>
              <a:buClr>
                <a:srgbClr val="0000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Is it (therefore) prone to misunderstanding as well as disagreement?</a:t>
            </a: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04160" indent="-274320">
              <a:spcBef>
                <a:spcPts val="601"/>
              </a:spcBef>
              <a:buClr>
                <a:srgbClr val="0000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Are you likely to change your mind about its meaning and importance over a lifetime?</a:t>
            </a: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04160" indent="-274320">
              <a:spcBef>
                <a:spcPts val="601"/>
              </a:spcBef>
              <a:buClr>
                <a:srgbClr val="0000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Does it reflect the core ideas as judged by experts?</a:t>
            </a: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" descr=""/>
          <p:cNvPicPr/>
          <p:nvPr/>
        </p:nvPicPr>
        <p:blipFill>
          <a:blip r:embed="rId2"/>
          <a:stretch/>
        </p:blipFill>
        <p:spPr>
          <a:xfrm>
            <a:off x="-176040" y="2000160"/>
            <a:ext cx="9389880" cy="685800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>
            <a:off x="-203040" y="4114800"/>
            <a:ext cx="9423360" cy="4476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0" y="30492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800000"/>
                </a:solidFill>
                <a:latin typeface="Book Antiqua"/>
              </a:rPr>
              <a:t>You’ve got to go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800000"/>
                </a:solidFill>
                <a:latin typeface="Book Antiqua"/>
              </a:rPr>
              <a:t>below the surface..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/>
          <p:nvPr/>
        </p:nvSpPr>
        <p:spPr>
          <a:xfrm>
            <a:off x="0" y="266688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800000"/>
                </a:solidFill>
                <a:latin typeface="Book Antiqua"/>
              </a:rPr>
              <a:t>to uncover the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800000"/>
                </a:solidFill>
                <a:latin typeface="Book Antiqua"/>
              </a:rPr>
              <a:t>really ‘big ideas.’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9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3" name=""/>
          <p:cNvGrpSpPr/>
          <p:nvPr/>
        </p:nvGrpSpPr>
        <p:grpSpPr>
          <a:xfrm>
            <a:off x="533520" y="1828800"/>
            <a:ext cx="6476400" cy="914040"/>
            <a:chOff x="533520" y="1828800"/>
            <a:chExt cx="6476400" cy="914040"/>
          </a:xfrm>
        </p:grpSpPr>
        <p:sp>
          <p:nvSpPr>
            <p:cNvPr id="254" name=""/>
            <p:cNvSpPr/>
            <p:nvPr/>
          </p:nvSpPr>
          <p:spPr>
            <a:xfrm>
              <a:off x="533520" y="1828800"/>
              <a:ext cx="6385680" cy="914040"/>
            </a:xfrm>
            <a:prstGeom prst="rect">
              <a:avLst/>
            </a:prstGeom>
            <a:solidFill>
              <a:srgbClr val="66ffff"/>
            </a:solidFill>
            <a:ln w="1260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77777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67520" y="1893240"/>
              <a:ext cx="624240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Book Antiqua"/>
                </a:rPr>
                <a:t>1. Identify desired result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6" name=""/>
          <p:cNvSpPr/>
          <p:nvPr/>
        </p:nvSpPr>
        <p:spPr>
          <a:xfrm>
            <a:off x="1073160" y="2978280"/>
            <a:ext cx="7378560" cy="1054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917640" y="3254400"/>
            <a:ext cx="76168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77777"/>
                </a:solidFill>
                <a:latin typeface="Book Antiqua"/>
              </a:rPr>
              <a:t> </a:t>
            </a:r>
            <a:r>
              <a:rPr b="1" lang="en-US" sz="3200" spc="-1" strike="noStrike">
                <a:solidFill>
                  <a:srgbClr val="777777"/>
                </a:solidFill>
                <a:latin typeface="Book Antiqua"/>
              </a:rPr>
              <a:t>2. Determine acceptable evid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1911240" y="4508640"/>
            <a:ext cx="6769080" cy="1282680"/>
            <a:chOff x="1911240" y="4508640"/>
            <a:chExt cx="6769080" cy="1282680"/>
          </a:xfrm>
        </p:grpSpPr>
        <p:sp>
          <p:nvSpPr>
            <p:cNvPr id="259" name=""/>
            <p:cNvSpPr/>
            <p:nvPr/>
          </p:nvSpPr>
          <p:spPr>
            <a:xfrm>
              <a:off x="1911240" y="4508640"/>
              <a:ext cx="6769080" cy="128268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77777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981080" y="4654440"/>
              <a:ext cx="6629400" cy="10638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777777"/>
                  </a:solidFill>
                  <a:latin typeface="Book Antiqua"/>
                </a:rPr>
                <a:t>3. Plan learning experiences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777777"/>
                  </a:solidFill>
                  <a:latin typeface="Book Antiqua"/>
                </a:rPr>
                <a:t>  </a:t>
              </a:r>
              <a:r>
                <a:rPr b="1" lang="en-US" sz="3200" spc="-1" strike="noStrike">
                  <a:solidFill>
                    <a:srgbClr val="777777"/>
                  </a:solidFill>
                  <a:latin typeface="Book Antiqua"/>
                </a:rPr>
                <a:t>&amp; instructio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58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0ff"/>
                </a:solidFill>
                <a:latin typeface="Arial"/>
              </a:rPr>
              <a:t>3 Stages of Design, elaborated</a:t>
            </a:r>
            <a:endParaRPr b="0" lang="en-US" sz="4400" spc="-1" strike="noStrike">
              <a:solidFill>
                <a:srgbClr val="4040ff"/>
              </a:solidFill>
              <a:latin typeface="Arial"/>
            </a:endParaRPr>
          </a:p>
        </p:txBody>
      </p:sp>
      <p:graphicFrame>
        <p:nvGraphicFramePr>
          <p:cNvPr id="262" name=""/>
          <p:cNvGraphicFramePr/>
          <p:nvPr/>
        </p:nvGraphicFramePr>
        <p:xfrm>
          <a:off x="7162920" y="152280"/>
          <a:ext cx="1650960" cy="1084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3" name="" descr="">
                    <a:hlinkClick r:id="rId2"/>
                  </p:cNvPr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162920" y="152280"/>
                    <a:ext cx="1650960" cy="108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dissolve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23" presetSubtype="28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440" y="218880"/>
            <a:ext cx="7605720" cy="115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0ff"/>
                </a:solidFill>
                <a:latin typeface="Arial"/>
              </a:rPr>
              <a:t>Stage 1 –  Identify </a:t>
            </a:r>
            <a:br>
              <a:rPr sz="4400"/>
            </a:br>
            <a:r>
              <a:rPr b="0" lang="en-US" sz="4400" spc="-1" strike="noStrike">
                <a:solidFill>
                  <a:srgbClr val="4040ff"/>
                </a:solidFill>
                <a:latin typeface="Arial"/>
              </a:rPr>
              <a:t>desired results.</a:t>
            </a:r>
            <a:endParaRPr b="0" lang="en-US" sz="4400" spc="-1" strike="noStrike">
              <a:solidFill>
                <a:srgbClr val="4040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75960" y="1447920"/>
            <a:ext cx="8915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a50021"/>
                </a:solidFill>
                <a:latin typeface="Book Antiqua"/>
              </a:rPr>
              <a:t>Key: Focus on Big ideas</a:t>
            </a:r>
            <a:endParaRPr b="1" i="1" lang="en-US" sz="3600" spc="-1" strike="noStrike">
              <a:solidFill>
                <a:srgbClr val="a50021"/>
              </a:solidFill>
              <a:latin typeface="Book Antiqua"/>
            </a:endParaRPr>
          </a:p>
          <a:p>
            <a:pPr lvl="1" marL="373680" indent="-268560">
              <a:spcBef>
                <a:spcPts val="700"/>
              </a:spcBef>
              <a:buClr>
                <a:srgbClr val="0000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ook Antiqua"/>
              </a:rPr>
              <a:t>Enduring Understandings:</a:t>
            </a: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 What specific insights about big ideas do we want students to leave with?</a:t>
            </a:r>
            <a:endParaRPr b="1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373680" indent="-268560">
              <a:lnSpc>
                <a:spcPct val="110000"/>
              </a:lnSpc>
              <a:spcBef>
                <a:spcPts val="700"/>
              </a:spcBef>
              <a:buClr>
                <a:srgbClr val="0000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What </a:t>
            </a:r>
            <a:r>
              <a:rPr b="1" i="1" lang="en-US" sz="2800" spc="-1" strike="noStrike">
                <a:solidFill>
                  <a:srgbClr val="000000"/>
                </a:solidFill>
                <a:latin typeface="Book Antiqua"/>
              </a:rPr>
              <a:t>essential questions</a:t>
            </a: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 will frame the teaching and learning, pointing toward key issues and ideas, and suggest meaningful and provocative inquiry into content?</a:t>
            </a:r>
            <a:endParaRPr b="1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373680" indent="-268560">
              <a:lnSpc>
                <a:spcPct val="110000"/>
              </a:lnSpc>
              <a:spcBef>
                <a:spcPts val="700"/>
              </a:spcBef>
              <a:buClr>
                <a:srgbClr val="0000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What should students </a:t>
            </a:r>
            <a:r>
              <a:rPr b="1" i="1" lang="en-US" sz="2800" spc="-1" strike="noStrike">
                <a:solidFill>
                  <a:srgbClr val="000000"/>
                </a:solidFill>
                <a:latin typeface="Book Antiqua"/>
              </a:rPr>
              <a:t>know and be able to do?</a:t>
            </a: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373680" indent="-268560">
              <a:lnSpc>
                <a:spcPct val="110000"/>
              </a:lnSpc>
              <a:spcBef>
                <a:spcPts val="700"/>
              </a:spcBef>
              <a:buClr>
                <a:srgbClr val="0000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What </a:t>
            </a:r>
            <a:r>
              <a:rPr b="1" i="1" lang="en-US" sz="2800" spc="-1" strike="noStrike">
                <a:solidFill>
                  <a:srgbClr val="000000"/>
                </a:solidFill>
                <a:latin typeface="Book Antiqua"/>
              </a:rPr>
              <a:t>content standards</a:t>
            </a: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 are addressed explicitly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by the unit?</a:t>
            </a:r>
            <a:endParaRPr b="1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66" name=""/>
          <p:cNvSpPr/>
          <p:nvPr/>
        </p:nvSpPr>
        <p:spPr>
          <a:xfrm>
            <a:off x="8534520" y="2057400"/>
            <a:ext cx="457200" cy="457200"/>
          </a:xfrm>
          <a:prstGeom prst="ellipse">
            <a:avLst/>
          </a:prstGeom>
          <a:solidFill>
            <a:srgbClr val="114ff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Arial"/>
              </a:rPr>
              <a:t>U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534520" y="4952880"/>
            <a:ext cx="457200" cy="457200"/>
          </a:xfrm>
          <a:prstGeom prst="ellipse">
            <a:avLst/>
          </a:prstGeom>
          <a:solidFill>
            <a:srgbClr val="114ff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Arial"/>
              </a:rPr>
              <a:t>K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8534520" y="3505320"/>
            <a:ext cx="457200" cy="457200"/>
          </a:xfrm>
          <a:prstGeom prst="ellipse">
            <a:avLst/>
          </a:prstGeom>
          <a:solidFill>
            <a:srgbClr val="114ff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Arial"/>
              </a:rPr>
              <a:t>Q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8534520" y="5715000"/>
            <a:ext cx="457200" cy="457200"/>
          </a:xfrm>
          <a:prstGeom prst="ellipse">
            <a:avLst/>
          </a:prstGeom>
          <a:solidFill>
            <a:srgbClr val="114ff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Arial"/>
              </a:rPr>
              <a:t>CS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1500"/>
                            </p:stCondLst>
                            <p:childTnLst>
                              <p:par>
                                <p:cTn id="198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3000"/>
                            </p:stCondLst>
                            <p:childTnLst>
                              <p:par>
                                <p:cTn id="203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4500"/>
                            </p:stCondLst>
                            <p:childTnLst>
                              <p:par>
                                <p:cTn id="208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6000"/>
                            </p:stCondLst>
                            <p:childTnLst>
                              <p:par>
                                <p:cTn id="213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33520" y="218880"/>
            <a:ext cx="7758000" cy="115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0ff"/>
                </a:solidFill>
                <a:latin typeface="Arial"/>
              </a:rPr>
              <a:t>The “big idea” of </a:t>
            </a:r>
            <a:br>
              <a:rPr sz="4400"/>
            </a:br>
            <a:r>
              <a:rPr b="0" lang="en-US" sz="4400" spc="-1" strike="noStrike">
                <a:solidFill>
                  <a:srgbClr val="4040ff"/>
                </a:solidFill>
                <a:latin typeface="Arial"/>
              </a:rPr>
              <a:t>Stage 1:</a:t>
            </a:r>
            <a:endParaRPr b="0" lang="en-US" sz="4400" spc="-1" strike="noStrike">
              <a:solidFill>
                <a:srgbClr val="4040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10480" cy="3505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1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a50021"/>
                </a:solidFill>
                <a:latin typeface="Book Antiqua"/>
              </a:rPr>
              <a:t>There is a clear focus in the unit </a:t>
            </a:r>
            <a:endParaRPr b="1" i="1" lang="en-US" sz="3600" spc="-1" strike="noStrike">
              <a:solidFill>
                <a:srgbClr val="a50021"/>
              </a:solidFill>
              <a:latin typeface="Book Antiqu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a50021"/>
                </a:solidFill>
                <a:latin typeface="Book Antiqua"/>
              </a:rPr>
              <a:t>on the </a:t>
            </a:r>
            <a:r>
              <a:rPr b="1" i="1" lang="en-US" sz="3600" spc="-1" strike="noStrike">
                <a:solidFill>
                  <a:srgbClr val="000000"/>
                </a:solidFill>
                <a:latin typeface="Book Antiqua"/>
              </a:rPr>
              <a:t>big ideas</a:t>
            </a:r>
            <a:endParaRPr b="1" i="1" lang="en-US" sz="3600" spc="-1" strike="noStrike">
              <a:solidFill>
                <a:srgbClr val="a50021"/>
              </a:solidFill>
              <a:latin typeface="Book Antiqu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Book Antiqua"/>
              </a:rPr>
              <a:t>Implications:</a:t>
            </a:r>
            <a:endParaRPr b="1" i="1" lang="en-US" sz="3200" spc="-1" strike="noStrike">
              <a:solidFill>
                <a:srgbClr val="a50021"/>
              </a:solidFill>
              <a:latin typeface="Book Antiqua"/>
            </a:endParaRPr>
          </a:p>
          <a:p>
            <a:pPr lvl="1" marL="329040" indent="-236160">
              <a:spcBef>
                <a:spcPts val="700"/>
              </a:spcBef>
              <a:buClr>
                <a:srgbClr val="0000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Organize content around key concepts</a:t>
            </a:r>
            <a:endParaRPr b="1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329040" indent="-236160">
              <a:spcBef>
                <a:spcPts val="700"/>
              </a:spcBef>
              <a:buClr>
                <a:srgbClr val="0000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Show how the big ideas offer a purpose and rationale for the student</a:t>
            </a:r>
            <a:endParaRPr b="1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329040" indent="-236160">
              <a:spcBef>
                <a:spcPts val="700"/>
              </a:spcBef>
              <a:buClr>
                <a:srgbClr val="0000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You will need to “unpack” Content standards in many cases to make the implied big ideas clear</a:t>
            </a:r>
            <a:endParaRPr b="1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7086600" y="82440"/>
            <a:ext cx="1785960" cy="18986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/>
          </p:nvPr>
        </p:nvSpPr>
        <p:spPr>
          <a:xfrm>
            <a:off x="456840" y="175248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42480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a50021"/>
                </a:solidFill>
                <a:latin typeface="Book Antiqua"/>
              </a:rPr>
              <a:t>An understanding is a </a:t>
            </a:r>
            <a:endParaRPr b="1" i="1" lang="en-US" sz="3600" spc="-1" strike="noStrike">
              <a:solidFill>
                <a:srgbClr val="a50021"/>
              </a:solidFill>
              <a:latin typeface="Book Antiqua"/>
            </a:endParaRPr>
          </a:p>
          <a:p>
            <a:pPr marL="42480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87534"/>
                </a:solidFill>
                <a:latin typeface="Book Antiqua"/>
              </a:rPr>
              <a:t>“</a:t>
            </a:r>
            <a:r>
              <a:rPr b="1" i="1" lang="en-US" sz="3600" spc="-1" strike="noStrike">
                <a:solidFill>
                  <a:srgbClr val="187534"/>
                </a:solidFill>
                <a:latin typeface="Book Antiqua"/>
              </a:rPr>
              <a:t>moral of the story”</a:t>
            </a:r>
            <a:r>
              <a:rPr b="1" i="1" lang="en-US" sz="3600" spc="-1" strike="noStrike">
                <a:solidFill>
                  <a:srgbClr val="a50021"/>
                </a:solidFill>
                <a:latin typeface="Book Antiqua"/>
              </a:rPr>
              <a:t> about the big ideas </a:t>
            </a:r>
            <a:endParaRPr b="1" i="1" lang="en-US" sz="3600" spc="-1" strike="noStrike">
              <a:solidFill>
                <a:srgbClr val="a50021"/>
              </a:solidFill>
              <a:latin typeface="Book Antiqua"/>
            </a:endParaRPr>
          </a:p>
          <a:p>
            <a:pPr lvl="1" marL="79272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92720" indent="-262440">
              <a:lnSpc>
                <a:spcPct val="110000"/>
              </a:lnSpc>
              <a:spcBef>
                <a:spcPts val="901"/>
              </a:spcBef>
              <a:buClr>
                <a:srgbClr val="0000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What </a:t>
            </a:r>
            <a:r>
              <a:rPr b="0" i="1" lang="en-US" sz="3200" spc="-1" strike="noStrike">
                <a:solidFill>
                  <a:srgbClr val="000000"/>
                </a:solidFill>
                <a:latin typeface="Book Antiqua"/>
              </a:rPr>
              <a:t>specific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 insights will students take away about the the meaning of ‘content’ via big ideas?</a:t>
            </a:r>
            <a:r>
              <a:rPr b="1" lang="en-US" sz="36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Book Antiqua"/>
            </a:endParaRPr>
          </a:p>
          <a:p>
            <a:pPr lvl="1" marL="792720" indent="-262440">
              <a:lnSpc>
                <a:spcPct val="110000"/>
              </a:lnSpc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Understandings summarize the desired insights we want students to realize</a:t>
            </a:r>
            <a:endParaRPr b="1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title"/>
          </p:nvPr>
        </p:nvSpPr>
        <p:spPr>
          <a:xfrm>
            <a:off x="685440" y="0"/>
            <a:ext cx="800100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0ff"/>
                </a:solidFill>
                <a:latin typeface="Arial"/>
              </a:rPr>
              <a:t>From Big Ideas to </a:t>
            </a:r>
            <a:r>
              <a:rPr b="0" i="1" lang="en-US" sz="4400" spc="-1" strike="noStrike">
                <a:solidFill>
                  <a:srgbClr val="4040ff"/>
                </a:solidFill>
                <a:latin typeface="Arial"/>
              </a:rPr>
              <a:t>Understandings</a:t>
            </a:r>
            <a:r>
              <a:rPr b="0" lang="en-US" sz="4400" spc="-1" strike="noStrike">
                <a:solidFill>
                  <a:srgbClr val="4040ff"/>
                </a:solidFill>
                <a:latin typeface="Arial"/>
              </a:rPr>
              <a:t> about them</a:t>
            </a:r>
            <a:endParaRPr b="0" lang="en-US" sz="4400" spc="-1" strike="noStrike">
              <a:solidFill>
                <a:srgbClr val="4040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8153280" y="762120"/>
            <a:ext cx="457200" cy="457200"/>
          </a:xfrm>
          <a:prstGeom prst="ellipse">
            <a:avLst/>
          </a:prstGeom>
          <a:solidFill>
            <a:srgbClr val="114ff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Arial"/>
              </a:rPr>
              <a:t>U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0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500"/>
                            </p:stCondLst>
                            <p:childTnLst>
                              <p:par>
                                <p:cTn id="22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533520" y="1828800"/>
            <a:ext cx="6324480" cy="762120"/>
            <a:chOff x="533520" y="1828800"/>
            <a:chExt cx="6324480" cy="762120"/>
          </a:xfrm>
        </p:grpSpPr>
        <p:sp>
          <p:nvSpPr>
            <p:cNvPr id="50" name=""/>
            <p:cNvSpPr/>
            <p:nvPr/>
          </p:nvSpPr>
          <p:spPr>
            <a:xfrm>
              <a:off x="533520" y="1828800"/>
              <a:ext cx="6235560" cy="762120"/>
            </a:xfrm>
            <a:prstGeom prst="rect">
              <a:avLst/>
            </a:prstGeom>
            <a:solidFill>
              <a:srgbClr val="66ffff"/>
            </a:solidFill>
            <a:ln w="1260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77777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120" y="1882800"/>
              <a:ext cx="609588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Book Antiqua"/>
                </a:rPr>
                <a:t>1. Identify desired result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917640" y="2978280"/>
            <a:ext cx="7616880" cy="1054080"/>
            <a:chOff x="917640" y="2978280"/>
            <a:chExt cx="7616880" cy="1054080"/>
          </a:xfrm>
        </p:grpSpPr>
        <p:sp>
          <p:nvSpPr>
            <p:cNvPr id="53" name=""/>
            <p:cNvSpPr/>
            <p:nvPr/>
          </p:nvSpPr>
          <p:spPr>
            <a:xfrm>
              <a:off x="1073160" y="2978280"/>
              <a:ext cx="7378560" cy="1054080"/>
            </a:xfrm>
            <a:prstGeom prst="rect">
              <a:avLst/>
            </a:prstGeom>
            <a:solidFill>
              <a:srgbClr val="eaec5e"/>
            </a:solidFill>
            <a:ln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cc99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917640" y="3254400"/>
              <a:ext cx="761688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Book Antiqua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Book Antiqua"/>
                </a:rPr>
                <a:t>2. Determine acceptable evidenc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1911240" y="4508640"/>
            <a:ext cx="6769080" cy="1282680"/>
            <a:chOff x="1911240" y="4508640"/>
            <a:chExt cx="6769080" cy="1282680"/>
          </a:xfrm>
        </p:grpSpPr>
        <p:sp>
          <p:nvSpPr>
            <p:cNvPr id="56" name=""/>
            <p:cNvSpPr/>
            <p:nvPr/>
          </p:nvSpPr>
          <p:spPr>
            <a:xfrm>
              <a:off x="1911240" y="4508640"/>
              <a:ext cx="6769080" cy="1282680"/>
            </a:xfrm>
            <a:prstGeom prst="rect">
              <a:avLst/>
            </a:prstGeom>
            <a:solidFill>
              <a:srgbClr val="99ff66"/>
            </a:solidFill>
            <a:ln w="1260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77777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981080" y="4654440"/>
              <a:ext cx="6629400" cy="106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Book Antiqua"/>
                </a:rPr>
                <a:t>3. Plan learning experiences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Book Antiqua"/>
                </a:rPr>
                <a:t>  </a:t>
              </a:r>
              <a:r>
                <a:rPr b="1" lang="en-US" sz="3200" spc="-1" strike="noStrike">
                  <a:solidFill>
                    <a:srgbClr val="000000"/>
                  </a:solidFill>
                  <a:latin typeface="Book Antiqua"/>
                </a:rPr>
                <a:t>&amp; instructio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7758000" cy="144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0ff"/>
                </a:solidFill>
                <a:latin typeface="Arial"/>
              </a:rPr>
              <a:t>3 Stages of </a:t>
            </a:r>
            <a:br>
              <a:rPr sz="4400"/>
            </a:br>
            <a:r>
              <a:rPr b="0" lang="en-US" sz="4400" spc="-1" strike="noStrike">
                <a:solidFill>
                  <a:srgbClr val="4040ff"/>
                </a:solidFill>
                <a:latin typeface="Arial"/>
              </a:rPr>
              <a:t>(“Backward”) Design</a:t>
            </a:r>
            <a:endParaRPr b="0" lang="en-US" sz="4400" spc="-1" strike="noStrike">
              <a:solidFill>
                <a:srgbClr val="4040ff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7162920" y="152280"/>
          <a:ext cx="1650960" cy="1084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>
                    <a:hlinkClick r:id="rId2"/>
                  </p:cNvPr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162920" y="152280"/>
                    <a:ext cx="1650960" cy="108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35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7000"/>
                            </p:stCondLst>
                            <p:childTnLst>
                              <p:par>
                                <p:cTn id="1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33520" y="218880"/>
            <a:ext cx="7758000" cy="115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0ff"/>
                </a:solidFill>
                <a:latin typeface="Arial"/>
              </a:rPr>
              <a:t>Understanding, defined: </a:t>
            </a:r>
            <a:br>
              <a:rPr sz="4400"/>
            </a:br>
            <a:r>
              <a:rPr b="0" lang="en-US" sz="4400" spc="-1" strike="noStrike">
                <a:solidFill>
                  <a:srgbClr val="4040ff"/>
                </a:solidFill>
                <a:latin typeface="Arial"/>
              </a:rPr>
              <a:t>They are...</a:t>
            </a:r>
            <a:endParaRPr b="0" lang="en-US" sz="4400" spc="-1" strike="noStrike">
              <a:solidFill>
                <a:srgbClr val="4040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47560" y="1447920"/>
            <a:ext cx="7986960" cy="420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lvl="1" marL="681480" indent="-265680">
              <a:spcBef>
                <a:spcPts val="700"/>
              </a:spcBef>
              <a:buClr>
                <a:srgbClr val="0000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Book Antiqua"/>
              </a:rPr>
              <a:t>specific generalizations</a:t>
            </a: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 about the “big ideas.” They summarize the key meanings, inferences, and importance of the ‘content’</a:t>
            </a:r>
            <a:endParaRPr b="1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681480" indent="-265680">
              <a:spcBef>
                <a:spcPts val="700"/>
              </a:spcBef>
              <a:buClr>
                <a:srgbClr val="0000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deliberately framed as a </a:t>
            </a:r>
            <a:r>
              <a:rPr b="1" lang="en-US" sz="2800" spc="-1" strike="noStrike">
                <a:solidFill>
                  <a:srgbClr val="0000ff"/>
                </a:solidFill>
                <a:latin typeface="Book Antiqua"/>
              </a:rPr>
              <a:t>full sentence “moral of the story”</a:t>
            </a:r>
            <a:r>
              <a:rPr b="0" i="1" lang="en-US" sz="2800" spc="-1" strike="noStrike">
                <a:solidFill>
                  <a:srgbClr val="000000"/>
                </a:solidFill>
                <a:latin typeface="Book Antiqua"/>
              </a:rPr>
              <a:t> – </a:t>
            </a:r>
            <a:r>
              <a:rPr b="1" i="1" lang="en-US" sz="2800" spc="-1" strike="noStrike">
                <a:solidFill>
                  <a:srgbClr val="000000"/>
                </a:solidFill>
                <a:latin typeface="Book Antiqua"/>
              </a:rPr>
              <a:t>“Students will understand </a:t>
            </a:r>
            <a:r>
              <a:rPr b="1" i="1" lang="en-US" sz="3200" spc="-1" strike="noStrike">
                <a:solidFill>
                  <a:srgbClr val="a50021"/>
                </a:solidFill>
                <a:latin typeface="Book Antiqua"/>
              </a:rPr>
              <a:t>THAT</a:t>
            </a:r>
            <a:r>
              <a:rPr b="1" i="1" lang="en-US" sz="2800" spc="-1" strike="noStrike">
                <a:solidFill>
                  <a:srgbClr val="000000"/>
                </a:solidFill>
                <a:latin typeface="Book Antiqua"/>
              </a:rPr>
              <a:t>…”</a:t>
            </a:r>
            <a:endParaRPr b="1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681480" indent="-265680">
              <a:spcBef>
                <a:spcPts val="700"/>
              </a:spcBef>
              <a:buClr>
                <a:srgbClr val="0000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Book Antiqua"/>
              </a:rPr>
              <a:t>Require “uncoverage”</a:t>
            </a: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because</a:t>
            </a: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 they are not “facts” to the novice, but </a:t>
            </a:r>
            <a:r>
              <a:rPr b="1" lang="en-US" sz="2800" spc="-1" strike="noStrike">
                <a:solidFill>
                  <a:srgbClr val="0000ff"/>
                </a:solidFill>
                <a:latin typeface="Book Antiqua"/>
              </a:rPr>
              <a:t>unobvious inferences</a:t>
            </a: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 drawn from facts - </a:t>
            </a:r>
            <a:r>
              <a:rPr b="1" lang="en-US" sz="2800" spc="-1" strike="noStrike">
                <a:solidFill>
                  <a:srgbClr val="0000ff"/>
                </a:solidFill>
                <a:latin typeface="Book Antiqua"/>
              </a:rPr>
              <a:t>counter-intuitive</a:t>
            </a: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 &amp; easily misunderstood</a:t>
            </a:r>
            <a:endParaRPr b="1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transition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" descr=""/>
          <p:cNvPicPr/>
          <p:nvPr/>
        </p:nvPicPr>
        <p:blipFill>
          <a:blip r:embed="rId2"/>
          <a:stretch/>
        </p:blipFill>
        <p:spPr>
          <a:xfrm>
            <a:off x="7620120" y="4876920"/>
            <a:ext cx="1338120" cy="1600200"/>
          </a:xfrm>
          <a:prstGeom prst="rect">
            <a:avLst/>
          </a:prstGeom>
          <a:ln w="0">
            <a:noFill/>
          </a:ln>
        </p:spPr>
      </p:pic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33520" y="218880"/>
            <a:ext cx="7758000" cy="115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0ff"/>
                </a:solidFill>
                <a:latin typeface="Arial"/>
              </a:rPr>
              <a:t>Understandings: examples...</a:t>
            </a:r>
            <a:endParaRPr b="0" lang="en-US" sz="4400" spc="-1" strike="noStrike">
              <a:solidFill>
                <a:srgbClr val="4040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0" y="1523520"/>
            <a:ext cx="914400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lvl="1" marL="734040" indent="-285840">
              <a:lnSpc>
                <a:spcPct val="80000"/>
              </a:lnSpc>
              <a:spcBef>
                <a:spcPts val="751"/>
              </a:spcBef>
              <a:buClr>
                <a:srgbClr val="0000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Book Antiqua"/>
              </a:rPr>
              <a:t>Great artists often break with conventions to better express what they see and feel.</a:t>
            </a:r>
            <a:endParaRPr b="1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lvl="1" marL="734040" indent="-285840">
              <a:lnSpc>
                <a:spcPct val="80000"/>
              </a:lnSpc>
              <a:spcBef>
                <a:spcPts val="751"/>
              </a:spcBef>
              <a:buClr>
                <a:srgbClr val="0000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Book Antiqua"/>
              </a:rPr>
              <a:t>Price is a function of supply and demand.</a:t>
            </a:r>
            <a:endParaRPr b="1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lvl="1" marL="734040" indent="-285840">
              <a:lnSpc>
                <a:spcPct val="80000"/>
              </a:lnSpc>
              <a:spcBef>
                <a:spcPts val="751"/>
              </a:spcBef>
              <a:buClr>
                <a:srgbClr val="0000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Book Antiqua"/>
              </a:rPr>
              <a:t>Friendships can be deepened or undone by hard times</a:t>
            </a:r>
            <a:endParaRPr b="1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lvl="1" marL="734040" indent="-285840">
              <a:lnSpc>
                <a:spcPct val="80000"/>
              </a:lnSpc>
              <a:spcBef>
                <a:spcPts val="751"/>
              </a:spcBef>
              <a:buClr>
                <a:srgbClr val="0000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Book Antiqua"/>
              </a:rPr>
              <a:t>History is the story told by the “winners”</a:t>
            </a:r>
            <a:endParaRPr b="1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lvl="1" marL="734040" indent="-285840">
              <a:lnSpc>
                <a:spcPct val="80000"/>
              </a:lnSpc>
              <a:spcBef>
                <a:spcPts val="751"/>
              </a:spcBef>
              <a:buClr>
                <a:srgbClr val="0000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Book Antiqua"/>
              </a:rPr>
              <a:t>F = ma (weight is not mass)</a:t>
            </a:r>
            <a:endParaRPr b="1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lvl="1" marL="734040" indent="-285840">
              <a:lnSpc>
                <a:spcPct val="80000"/>
              </a:lnSpc>
              <a:spcBef>
                <a:spcPts val="751"/>
              </a:spcBef>
              <a:buClr>
                <a:srgbClr val="0000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Book Antiqua"/>
              </a:rPr>
              <a:t>Math models simplify physical relations – and even sometimes </a:t>
            </a:r>
            <a:r>
              <a:rPr b="1" i="1" lang="en-US" sz="3000" spc="-1" strike="noStrike">
                <a:solidFill>
                  <a:srgbClr val="000000"/>
                </a:solidFill>
                <a:latin typeface="Book Antiqua"/>
              </a:rPr>
              <a:t>distort</a:t>
            </a:r>
            <a:r>
              <a:rPr b="1" lang="en-US" sz="3000" spc="-1" strike="noStrike">
                <a:solidFill>
                  <a:srgbClr val="000000"/>
                </a:solidFill>
                <a:latin typeface="Book Antiqua"/>
              </a:rPr>
              <a:t> relations – to deepen our understanding of them</a:t>
            </a:r>
            <a:endParaRPr b="1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lvl="1" marL="734040" indent="-285840">
              <a:lnSpc>
                <a:spcPct val="80000"/>
              </a:lnSpc>
              <a:spcBef>
                <a:spcPts val="751"/>
              </a:spcBef>
              <a:buClr>
                <a:srgbClr val="0000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Book Antiqua"/>
              </a:rPr>
              <a:t>The storyteller rarely tells the meaning 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Book Antiqua"/>
              </a:rPr>
              <a:t>of the story</a:t>
            </a:r>
            <a:endParaRPr b="1" lang="en-US" sz="3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81" name=""/>
          <p:cNvSpPr/>
          <p:nvPr/>
        </p:nvSpPr>
        <p:spPr>
          <a:xfrm>
            <a:off x="8153280" y="762120"/>
            <a:ext cx="457200" cy="457200"/>
          </a:xfrm>
          <a:prstGeom prst="ellipse">
            <a:avLst/>
          </a:prstGeom>
          <a:solidFill>
            <a:srgbClr val="114ff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Arial"/>
              </a:rPr>
              <a:t>U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500"/>
                            </p:stCondLst>
                            <p:childTnLst>
                              <p:par>
                                <p:cTn id="24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50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28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3000"/>
                            </p:stCondLst>
                            <p:childTnLst>
                              <p:par>
                                <p:cTn id="25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55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28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4500"/>
                            </p:stCondLst>
                            <p:childTnLst>
                              <p:par>
                                <p:cTn id="25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60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28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000"/>
                            </p:stCondLst>
                            <p:childTnLst>
                              <p:par>
                                <p:cTn id="26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65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28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7500"/>
                            </p:stCondLst>
                            <p:childTnLst>
                              <p:par>
                                <p:cTn id="26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500"/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70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280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9000"/>
                            </p:stCondLst>
                            <p:childTnLst>
                              <p:par>
                                <p:cTn id="27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2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75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28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10500"/>
                            </p:stCondLst>
                            <p:childTnLst>
                              <p:par>
                                <p:cTn id="277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81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28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33520" y="218880"/>
            <a:ext cx="7758000" cy="115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0ff"/>
                </a:solidFill>
                <a:latin typeface="Arial"/>
              </a:rPr>
              <a:t>Knowledge vs. Understanding</a:t>
            </a:r>
            <a:endParaRPr b="0" lang="en-US" sz="4400" spc="-1" strike="noStrike">
              <a:solidFill>
                <a:srgbClr val="4040ff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76320" y="1447920"/>
            <a:ext cx="8596080" cy="420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lvl="1" marL="681480" indent="-265680">
              <a:spcBef>
                <a:spcPts val="700"/>
              </a:spcBef>
              <a:buClr>
                <a:srgbClr val="0000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An understanding is an </a:t>
            </a:r>
            <a:r>
              <a:rPr b="1" i="1" lang="en-US" sz="2800" spc="-1" strike="noStrike">
                <a:solidFill>
                  <a:srgbClr val="000000"/>
                </a:solidFill>
                <a:latin typeface="Book Antiqua"/>
              </a:rPr>
              <a:t>unobvious and important inference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, needing “uncoverage” in the unit;  knowledge is a set of established “facts”.</a:t>
            </a:r>
            <a:endParaRPr b="1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681480" indent="-265680">
              <a:spcBef>
                <a:spcPts val="700"/>
              </a:spcBef>
              <a:buClr>
                <a:srgbClr val="0000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Understandings make sense of facts, skills, and ideas: they tell us what our knowledge </a:t>
            </a:r>
            <a:r>
              <a:rPr b="1" i="1" lang="en-US" sz="2800" spc="-1" strike="noStrike">
                <a:solidFill>
                  <a:srgbClr val="000000"/>
                </a:solidFill>
                <a:latin typeface="Book Antiqua"/>
              </a:rPr>
              <a:t>means</a:t>
            </a:r>
            <a:r>
              <a:rPr b="0" i="1" lang="en-US" sz="2800" spc="-1" strike="noStrike">
                <a:solidFill>
                  <a:srgbClr val="000000"/>
                </a:solidFill>
                <a:latin typeface="Book Antiqua"/>
              </a:rPr>
              <a:t>; </a:t>
            </a: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they</a:t>
            </a:r>
            <a:r>
              <a:rPr b="0" i="1" lang="en-US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Book Antiqua"/>
              </a:rPr>
              <a:t>‘connect the dots’</a:t>
            </a:r>
            <a:endParaRPr b="1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681480" indent="-265680">
              <a:spcBef>
                <a:spcPts val="700"/>
              </a:spcBef>
              <a:buClr>
                <a:srgbClr val="0000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Any understandings are inherently fallible “theories”; knowledge consists of the accepted “facts” upon which a “theory” is based and the “facts” which a “theory” yields.</a:t>
            </a:r>
            <a:endParaRPr b="1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transition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33520" y="218880"/>
            <a:ext cx="7758000" cy="115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0ff"/>
                </a:solidFill>
                <a:latin typeface="Arial"/>
              </a:rPr>
              <a:t>Essential Questions</a:t>
            </a:r>
            <a:endParaRPr b="0" lang="en-US" sz="4400" spc="-1" strike="noStrike">
              <a:solidFill>
                <a:srgbClr val="4040f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51920" y="1371600"/>
            <a:ext cx="859644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a50021"/>
                </a:solidFill>
                <a:latin typeface="Book Antiqua"/>
              </a:rPr>
              <a:t>What questions –</a:t>
            </a:r>
            <a:endParaRPr b="1" i="1" lang="en-US" sz="3600" spc="-1" strike="noStrike">
              <a:solidFill>
                <a:srgbClr val="a50021"/>
              </a:solidFill>
              <a:latin typeface="Book Antiqua"/>
            </a:endParaRPr>
          </a:p>
          <a:p>
            <a:pPr lvl="1" marL="704160" indent="-27432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are </a:t>
            </a:r>
            <a:r>
              <a:rPr b="1" lang="en-US" sz="2800" spc="-1" strike="noStrike">
                <a:solidFill>
                  <a:srgbClr val="a50021"/>
                </a:solidFill>
                <a:latin typeface="Book Antiqua"/>
              </a:rPr>
              <a:t>arguable</a:t>
            </a: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 - and </a:t>
            </a:r>
            <a:r>
              <a:rPr b="1" i="1" lang="en-US" sz="2800" spc="-1" strike="noStrike">
                <a:solidFill>
                  <a:srgbClr val="000000"/>
                </a:solidFill>
                <a:latin typeface="Book Antiqua"/>
              </a:rPr>
              <a:t>important</a:t>
            </a: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 to argue about? </a:t>
            </a:r>
            <a:endParaRPr b="1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04160" indent="-27432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are at the heart of the subject?</a:t>
            </a:r>
            <a:endParaRPr b="1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04160" indent="-27432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recur - and </a:t>
            </a:r>
            <a:r>
              <a:rPr b="1" i="1" lang="en-US" sz="2800" spc="-1" strike="noStrike">
                <a:solidFill>
                  <a:srgbClr val="000000"/>
                </a:solidFill>
                <a:latin typeface="Book Antiqua"/>
              </a:rPr>
              <a:t>should</a:t>
            </a: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 recur - in professional work, adult life, as well as in classroom inquiry? </a:t>
            </a:r>
            <a:endParaRPr b="1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04160" indent="-27432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raise </a:t>
            </a:r>
            <a:r>
              <a:rPr b="1" lang="en-US" sz="2800" spc="-1" strike="noStrike">
                <a:solidFill>
                  <a:srgbClr val="a50021"/>
                </a:solidFill>
                <a:latin typeface="Book Antiqua"/>
              </a:rPr>
              <a:t>more</a:t>
            </a: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 questions – provoking and sustaining engaged inquiry?</a:t>
            </a:r>
            <a:endParaRPr b="1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04160" indent="-27432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often raise important conceptual or philosophical issues?</a:t>
            </a:r>
            <a:endParaRPr b="1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04160" indent="-27432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can provide organizing purpose for meaningful &amp; connected learning?</a:t>
            </a:r>
            <a:endParaRPr b="1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86" name=""/>
          <p:cNvSpPr/>
          <p:nvPr/>
        </p:nvSpPr>
        <p:spPr>
          <a:xfrm>
            <a:off x="8077320" y="762120"/>
            <a:ext cx="457200" cy="457200"/>
          </a:xfrm>
          <a:prstGeom prst="ellipse">
            <a:avLst/>
          </a:prstGeom>
          <a:solidFill>
            <a:srgbClr val="114ff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Arial"/>
              </a:rPr>
              <a:t>Q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0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500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1500"/>
                            </p:stCondLst>
                            <p:childTnLst>
                              <p:par>
                                <p:cTn id="29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28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3000"/>
                            </p:stCondLst>
                            <p:childTnLst>
                              <p:par>
                                <p:cTn id="29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" dur="500"/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98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28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4500"/>
                            </p:stCondLst>
                            <p:childTnLst>
                              <p:par>
                                <p:cTn id="30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" dur="500"/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03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28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6000"/>
                            </p:stCondLst>
                            <p:childTnLst>
                              <p:par>
                                <p:cTn id="30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500"/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08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28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7500"/>
                            </p:stCondLst>
                            <p:childTnLst>
                              <p:par>
                                <p:cTn id="31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" dur="500"/>
                                        <p:tgtEl>
                                          <p:spTgt spid="2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13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285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9000"/>
                            </p:stCondLst>
                            <p:childTnLst>
                              <p:par>
                                <p:cTn id="31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500"/>
                                        <p:tgtEl>
                                          <p:spTgt spid="2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18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285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10500"/>
                            </p:stCondLst>
                            <p:childTnLst>
                              <p:par>
                                <p:cTn id="320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24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285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228600" y="1523880"/>
            <a:ext cx="4191120" cy="4648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33520" y="218880"/>
            <a:ext cx="7758000" cy="115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0ff"/>
                </a:solidFill>
                <a:latin typeface="Arial"/>
              </a:rPr>
              <a:t>Essential vs. “leading” Q’s used in teaching (Stage 3)</a:t>
            </a:r>
            <a:endParaRPr b="0" lang="en-US" sz="4400" spc="-1" strike="noStrike">
              <a:solidFill>
                <a:srgbClr val="4040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52280" y="1523880"/>
            <a:ext cx="4176720" cy="420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a50021"/>
                </a:solidFill>
                <a:latin typeface="Book Antiqua"/>
              </a:rPr>
              <a:t>Essential </a:t>
            </a:r>
            <a:r>
              <a:rPr b="1" i="1" lang="en-US" sz="3200" spc="-1" strike="noStrike">
                <a:solidFill>
                  <a:srgbClr val="000000"/>
                </a:solidFill>
                <a:latin typeface="Book Antiqua"/>
              </a:rPr>
              <a:t>- STAGE 1</a:t>
            </a:r>
            <a:endParaRPr b="1" i="1" lang="en-US" sz="3200" spc="-1" strike="noStrike">
              <a:solidFill>
                <a:srgbClr val="a50021"/>
              </a:solidFill>
              <a:latin typeface="Book Antiqua"/>
            </a:endParaRPr>
          </a:p>
          <a:p>
            <a:pPr lvl="1" marL="711360" indent="-277200">
              <a:spcBef>
                <a:spcPts val="700"/>
              </a:spcBef>
              <a:buClr>
                <a:srgbClr val="0000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Asked to be argued</a:t>
            </a:r>
            <a:endParaRPr b="1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11360" indent="-277200">
              <a:spcBef>
                <a:spcPts val="700"/>
              </a:spcBef>
              <a:buClr>
                <a:srgbClr val="0000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Designed to “uncover” new ideas, views, lines of argument</a:t>
            </a:r>
            <a:endParaRPr b="1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11360" indent="-277200">
              <a:spcBef>
                <a:spcPts val="700"/>
              </a:spcBef>
              <a:buClr>
                <a:srgbClr val="0000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Set up inquiry, heading to new understandings</a:t>
            </a:r>
            <a:endParaRPr b="1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419720" y="1523520"/>
            <a:ext cx="449568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a50021"/>
                </a:solidFill>
                <a:latin typeface="Book Antiqua"/>
              </a:rPr>
              <a:t>Leading </a:t>
            </a:r>
            <a:r>
              <a:rPr b="1" i="1" lang="en-US" sz="3200" spc="-1" strike="noStrike">
                <a:solidFill>
                  <a:srgbClr val="000000"/>
                </a:solidFill>
                <a:latin typeface="Book Antiqua"/>
              </a:rPr>
              <a:t>- STAGE 3</a:t>
            </a:r>
            <a:endParaRPr b="1" i="1" lang="en-US" sz="3200" spc="-1" strike="noStrike">
              <a:solidFill>
                <a:srgbClr val="a50021"/>
              </a:solidFill>
              <a:latin typeface="Book Antiqua"/>
            </a:endParaRPr>
          </a:p>
          <a:p>
            <a:pPr lvl="1" marL="749160" indent="-291960">
              <a:spcBef>
                <a:spcPts val="700"/>
              </a:spcBef>
              <a:buClr>
                <a:srgbClr val="0000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Asked as a reminder, to prompt recall </a:t>
            </a:r>
            <a:endParaRPr b="1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9160" indent="-291960">
              <a:spcBef>
                <a:spcPts val="700"/>
              </a:spcBef>
              <a:buClr>
                <a:srgbClr val="0000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Designed to “cover” knowledge</a:t>
            </a:r>
            <a:endParaRPr b="1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9160" indent="-291960">
              <a:spcBef>
                <a:spcPts val="700"/>
              </a:spcBef>
              <a:buClr>
                <a:srgbClr val="0000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Point to a single, straightforward fact - a rhetorical question</a:t>
            </a:r>
            <a:endParaRPr b="1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91" name=""/>
          <p:cNvSpPr/>
          <p:nvPr/>
        </p:nvSpPr>
        <p:spPr>
          <a:xfrm>
            <a:off x="4724280" y="1523880"/>
            <a:ext cx="4191120" cy="4648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33520" y="218880"/>
            <a:ext cx="7758000" cy="115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0ff"/>
                </a:solidFill>
                <a:latin typeface="Arial"/>
              </a:rPr>
              <a:t>Sample Essential Questions:</a:t>
            </a:r>
            <a:endParaRPr b="0" lang="en-US" sz="4400" spc="-1" strike="noStrike">
              <a:solidFill>
                <a:srgbClr val="4040f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lvl="1" marL="741600" indent="-288720">
              <a:lnSpc>
                <a:spcPct val="80000"/>
              </a:lnSpc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Who are my true friends - and how do I know for sure?</a:t>
            </a:r>
            <a:endParaRPr b="1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1600" indent="-288720">
              <a:lnSpc>
                <a:spcPct val="80000"/>
              </a:lnSpc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How “rational” is the market?</a:t>
            </a:r>
            <a:endParaRPr b="1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1600" indent="-288720">
              <a:lnSpc>
                <a:spcPct val="80000"/>
              </a:lnSpc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Does a good read differ from a ‘great book’? Why are some books fads, and others classics? </a:t>
            </a:r>
            <a:endParaRPr b="1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1600" indent="-288720">
              <a:lnSpc>
                <a:spcPct val="80000"/>
              </a:lnSpc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To what extent is geography destiny? </a:t>
            </a:r>
            <a:endParaRPr b="1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1600" indent="-28872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Should an axiom be obvious?</a:t>
            </a: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1600" indent="-288720">
              <a:lnSpc>
                <a:spcPct val="80000"/>
              </a:lnSpc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How different is a scientific theory from a plausible belief?</a:t>
            </a:r>
            <a:endParaRPr b="1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1600" indent="-288720">
              <a:lnSpc>
                <a:spcPct val="80000"/>
              </a:lnSpc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What is the government’s proper role?</a:t>
            </a:r>
            <a:endParaRPr b="1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94" name=""/>
          <p:cNvSpPr/>
          <p:nvPr/>
        </p:nvSpPr>
        <p:spPr>
          <a:xfrm>
            <a:off x="8077320" y="762120"/>
            <a:ext cx="457200" cy="457200"/>
          </a:xfrm>
          <a:prstGeom prst="ellipse">
            <a:avLst/>
          </a:prstGeom>
          <a:solidFill>
            <a:srgbClr val="114ff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Arial"/>
              </a:rPr>
              <a:t>Q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0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1500"/>
                            </p:stCondLst>
                            <p:childTnLst>
                              <p:par>
                                <p:cTn id="33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500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36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29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3000"/>
                            </p:stCondLst>
                            <p:childTnLst>
                              <p:par>
                                <p:cTn id="33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" dur="500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41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29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4500"/>
                            </p:stCondLst>
                            <p:childTnLst>
                              <p:par>
                                <p:cTn id="34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500"/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46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29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6000"/>
                            </p:stCondLst>
                            <p:childTnLst>
                              <p:par>
                                <p:cTn id="34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" dur="500"/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51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29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7500"/>
                            </p:stCondLst>
                            <p:childTnLst>
                              <p:par>
                                <p:cTn id="35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5" dur="500"/>
                                        <p:tgtEl>
                                          <p:spTgt spid="2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56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293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9000"/>
                            </p:stCondLst>
                            <p:childTnLst>
                              <p:par>
                                <p:cTn id="35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0" dur="500"/>
                                        <p:tgtEl>
                                          <p:spTgt spid="2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61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293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10500"/>
                            </p:stCondLst>
                            <p:childTnLst>
                              <p:par>
                                <p:cTn id="363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67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29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5" name=""/>
          <p:cNvGrpSpPr/>
          <p:nvPr/>
        </p:nvGrpSpPr>
        <p:grpSpPr>
          <a:xfrm>
            <a:off x="533520" y="1828800"/>
            <a:ext cx="6324480" cy="762120"/>
            <a:chOff x="533520" y="1828800"/>
            <a:chExt cx="6324480" cy="762120"/>
          </a:xfrm>
        </p:grpSpPr>
        <p:sp>
          <p:nvSpPr>
            <p:cNvPr id="296" name=""/>
            <p:cNvSpPr/>
            <p:nvPr/>
          </p:nvSpPr>
          <p:spPr>
            <a:xfrm>
              <a:off x="533520" y="1828800"/>
              <a:ext cx="6235560" cy="76212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77777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762120" y="1882800"/>
              <a:ext cx="6095880" cy="5763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777777"/>
                  </a:solidFill>
                  <a:latin typeface="Book Antiqua"/>
                </a:rPr>
                <a:t>1. Identify desired result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917640" y="2978280"/>
            <a:ext cx="7616880" cy="1462320"/>
            <a:chOff x="917640" y="2978280"/>
            <a:chExt cx="7616880" cy="1462320"/>
          </a:xfrm>
        </p:grpSpPr>
        <p:sp>
          <p:nvSpPr>
            <p:cNvPr id="299" name=""/>
            <p:cNvSpPr/>
            <p:nvPr/>
          </p:nvSpPr>
          <p:spPr>
            <a:xfrm>
              <a:off x="1073160" y="2978280"/>
              <a:ext cx="7378560" cy="1054080"/>
            </a:xfrm>
            <a:prstGeom prst="rect">
              <a:avLst/>
            </a:prstGeom>
            <a:solidFill>
              <a:srgbClr val="eaec5e"/>
            </a:solidFill>
            <a:ln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cc99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917640" y="3254400"/>
              <a:ext cx="7616880" cy="118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Book Antiqua"/>
                </a:rPr>
                <a:t> </a:t>
              </a:r>
              <a:r>
                <a:rPr b="1" lang="en-US" sz="3600" spc="-1" strike="noStrike">
                  <a:solidFill>
                    <a:srgbClr val="000000"/>
                  </a:solidFill>
                  <a:latin typeface="Book Antiqua"/>
                </a:rPr>
                <a:t>2. Determine acceptable evidence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1" name=""/>
          <p:cNvGrpSpPr/>
          <p:nvPr/>
        </p:nvGrpSpPr>
        <p:grpSpPr>
          <a:xfrm>
            <a:off x="1911240" y="4508640"/>
            <a:ext cx="6769080" cy="1282680"/>
            <a:chOff x="1911240" y="4508640"/>
            <a:chExt cx="6769080" cy="1282680"/>
          </a:xfrm>
        </p:grpSpPr>
        <p:sp>
          <p:nvSpPr>
            <p:cNvPr id="302" name=""/>
            <p:cNvSpPr/>
            <p:nvPr/>
          </p:nvSpPr>
          <p:spPr>
            <a:xfrm>
              <a:off x="1911240" y="4508640"/>
              <a:ext cx="6769080" cy="128268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77777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981080" y="4654440"/>
              <a:ext cx="6629400" cy="10638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777777"/>
                  </a:solidFill>
                  <a:latin typeface="Book Antiqua"/>
                </a:rPr>
                <a:t>3. Plan learning experiences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777777"/>
                  </a:solidFill>
                  <a:latin typeface="Book Antiqua"/>
                </a:rPr>
                <a:t>  </a:t>
              </a:r>
              <a:r>
                <a:rPr b="1" lang="en-US" sz="3200" spc="-1" strike="noStrike">
                  <a:solidFill>
                    <a:srgbClr val="777777"/>
                  </a:solidFill>
                  <a:latin typeface="Book Antiqua"/>
                </a:rPr>
                <a:t>&amp; instructio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5800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0ff"/>
                </a:solidFill>
                <a:latin typeface="Arial"/>
              </a:rPr>
              <a:t>3 Stages of Design: </a:t>
            </a:r>
            <a:br>
              <a:rPr sz="4400"/>
            </a:br>
            <a:r>
              <a:rPr b="0" lang="en-US" sz="4400" spc="-1" strike="noStrike">
                <a:solidFill>
                  <a:srgbClr val="4040ff"/>
                </a:solidFill>
                <a:latin typeface="Arial"/>
              </a:rPr>
              <a:t>Stage 2</a:t>
            </a:r>
            <a:endParaRPr b="0" lang="en-US" sz="4400" spc="-1" strike="noStrike">
              <a:solidFill>
                <a:srgbClr val="4040ff"/>
              </a:solidFill>
              <a:latin typeface="Arial"/>
            </a:endParaRPr>
          </a:p>
        </p:txBody>
      </p:sp>
      <p:graphicFrame>
        <p:nvGraphicFramePr>
          <p:cNvPr id="305" name=""/>
          <p:cNvGraphicFramePr/>
          <p:nvPr/>
        </p:nvGraphicFramePr>
        <p:xfrm>
          <a:off x="7162920" y="152280"/>
          <a:ext cx="1650960" cy="1084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6" name="" descr="">
                    <a:hlinkClick r:id="rId2"/>
                  </p:cNvPr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162920" y="152280"/>
                    <a:ext cx="1650960" cy="108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dissolve/>
  </p:transition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0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afterEffect" fill="hold" presetClass="entr" presetID="23" presetSubtype="28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33520" y="218880"/>
            <a:ext cx="7758000" cy="115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0ff"/>
                </a:solidFill>
                <a:latin typeface="Arial"/>
              </a:rPr>
              <a:t>Stage 2 –  Assessment Evidence</a:t>
            </a:r>
            <a:endParaRPr b="0" lang="en-US" sz="4400" spc="-1" strike="noStrike">
              <a:solidFill>
                <a:srgbClr val="4040ff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47560" y="1447920"/>
            <a:ext cx="798696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a50021"/>
                </a:solidFill>
                <a:latin typeface="Book Antiqua"/>
              </a:rPr>
              <a:t>Template fields ask:</a:t>
            </a:r>
            <a:br>
              <a:rPr sz="3600"/>
            </a:br>
            <a:endParaRPr b="1" i="1" lang="en-US" sz="3600" spc="-1" strike="noStrike">
              <a:solidFill>
                <a:srgbClr val="a50021"/>
              </a:solidFill>
              <a:latin typeface="Book Antiqua"/>
            </a:endParaRPr>
          </a:p>
          <a:p>
            <a:pPr lvl="1" marL="406440" indent="-291960">
              <a:lnSpc>
                <a:spcPct val="110000"/>
              </a:lnSpc>
              <a:spcBef>
                <a:spcPts val="700"/>
              </a:spcBef>
              <a:buClr>
                <a:srgbClr val="0000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What are key complex performance tasks indicative of understanding?</a:t>
            </a:r>
            <a:endParaRPr b="1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406440" indent="-291960">
              <a:lnSpc>
                <a:spcPct val="110000"/>
              </a:lnSpc>
              <a:spcBef>
                <a:spcPts val="700"/>
              </a:spcBef>
              <a:buClr>
                <a:srgbClr val="0000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What </a:t>
            </a:r>
            <a:r>
              <a:rPr b="1" i="1" lang="en-US" sz="2800" spc="-1" strike="noStrike">
                <a:solidFill>
                  <a:srgbClr val="000000"/>
                </a:solidFill>
                <a:latin typeface="Book Antiqua"/>
              </a:rPr>
              <a:t>other evidence</a:t>
            </a: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 will be collected to build the case for understanding, knowledge, and skill?</a:t>
            </a:r>
            <a:endParaRPr b="1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406440" indent="-291960">
              <a:lnSpc>
                <a:spcPct val="110000"/>
              </a:lnSpc>
              <a:spcBef>
                <a:spcPts val="700"/>
              </a:spcBef>
              <a:buClr>
                <a:srgbClr val="0000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What rubrics will be used to assess complex performance?</a:t>
            </a:r>
            <a:endParaRPr b="1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09" name=""/>
          <p:cNvSpPr/>
          <p:nvPr/>
        </p:nvSpPr>
        <p:spPr>
          <a:xfrm>
            <a:off x="8153280" y="2971800"/>
            <a:ext cx="457200" cy="457200"/>
          </a:xfrm>
          <a:prstGeom prst="ellipse">
            <a:avLst/>
          </a:prstGeom>
          <a:solidFill>
            <a:srgbClr val="114ff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8229600" y="4572000"/>
            <a:ext cx="457200" cy="457200"/>
          </a:xfrm>
          <a:prstGeom prst="ellipse">
            <a:avLst/>
          </a:prstGeom>
          <a:solidFill>
            <a:srgbClr val="114ff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O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8229600" y="5334120"/>
            <a:ext cx="457200" cy="457200"/>
          </a:xfrm>
          <a:prstGeom prst="ellipse">
            <a:avLst/>
          </a:prstGeom>
          <a:solidFill>
            <a:srgbClr val="114ff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0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2" dur="500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" dur="500"/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" dur="500"/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1" dur="500"/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1500"/>
                            </p:stCondLst>
                            <p:childTnLst>
                              <p:par>
                                <p:cTn id="393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3000"/>
                            </p:stCondLst>
                            <p:childTnLst>
                              <p:par>
                                <p:cTn id="398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4500"/>
                            </p:stCondLst>
                            <p:childTnLst>
                              <p:par>
                                <p:cTn id="403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" descr=""/>
          <p:cNvPicPr/>
          <p:nvPr/>
        </p:nvPicPr>
        <p:blipFill>
          <a:blip r:embed="rId2"/>
          <a:stretch/>
        </p:blipFill>
        <p:spPr>
          <a:xfrm>
            <a:off x="7086600" y="0"/>
            <a:ext cx="1785960" cy="1898640"/>
          </a:xfrm>
          <a:prstGeom prst="rect">
            <a:avLst/>
          </a:prstGeom>
          <a:ln w="0">
            <a:noFill/>
          </a:ln>
        </p:spPr>
      </p:pic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33520" y="218880"/>
            <a:ext cx="7758000" cy="115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0ff"/>
                </a:solidFill>
                <a:latin typeface="Arial"/>
              </a:rPr>
              <a:t>The big idea</a:t>
            </a:r>
            <a:br>
              <a:rPr sz="4400"/>
            </a:br>
            <a:r>
              <a:rPr b="0" lang="en-US" sz="4400" spc="-1" strike="noStrike">
                <a:solidFill>
                  <a:srgbClr val="4040ff"/>
                </a:solidFill>
                <a:latin typeface="Arial"/>
              </a:rPr>
              <a:t>for Stage 2</a:t>
            </a:r>
            <a:endParaRPr b="0" lang="en-US" sz="4400" spc="-1" strike="noStrike">
              <a:solidFill>
                <a:srgbClr val="4040ff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8915400" cy="420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2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a50021"/>
                </a:solidFill>
                <a:latin typeface="Book Antiqua"/>
              </a:rPr>
              <a:t>The evidence should be credible &amp; helpful. </a:t>
            </a:r>
            <a:endParaRPr b="1" i="1" lang="en-US" sz="3600" spc="-1" strike="noStrike">
              <a:solidFill>
                <a:srgbClr val="a50021"/>
              </a:solidFill>
              <a:latin typeface="Book Antiqu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Book Antiqua"/>
              </a:rPr>
              <a:t>Implications: the assessments should –</a:t>
            </a:r>
            <a:endParaRPr b="1" i="1" lang="en-US" sz="3600" spc="-1" strike="noStrike">
              <a:solidFill>
                <a:srgbClr val="a50021"/>
              </a:solidFill>
              <a:latin typeface="Book Antiqua"/>
            </a:endParaRPr>
          </a:p>
          <a:p>
            <a:pPr lvl="1" marL="614160" indent="-23940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Be grounded in real-world applications, </a:t>
            </a:r>
            <a:r>
              <a:rPr b="1" i="1" lang="en-US" sz="3200" spc="-1" strike="noStrike">
                <a:solidFill>
                  <a:srgbClr val="000000"/>
                </a:solidFill>
                <a:latin typeface="Book Antiqua"/>
              </a:rPr>
              <a:t>supplemented as needed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 by more traditional school evidence</a:t>
            </a:r>
            <a:endParaRPr b="1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614160" indent="-23940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Provide useful feedback to the learner, be transparent, and minimize secrecy</a:t>
            </a:r>
            <a:endParaRPr b="1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614160" indent="-23940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Be valid, reliable - aligned with the desired results of Stage 1 (and fair)</a:t>
            </a:r>
            <a:endParaRPr b="1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transition>
    <p:dissolv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33520" y="218880"/>
            <a:ext cx="7758000" cy="115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0ff"/>
                </a:solidFill>
                <a:latin typeface="Arial"/>
              </a:rPr>
              <a:t>Just because the student “knows it” …</a:t>
            </a:r>
            <a:endParaRPr b="0" lang="en-US" sz="4400" spc="-1" strike="noStrike">
              <a:solidFill>
                <a:srgbClr val="4040ff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47560" y="1676520"/>
            <a:ext cx="7986960" cy="420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a50021"/>
                </a:solidFill>
                <a:latin typeface="Book Antiqua"/>
              </a:rPr>
              <a:t>Evidence of understanding is a </a:t>
            </a:r>
            <a:r>
              <a:rPr b="1" lang="en-US" sz="3600" spc="-1" strike="noStrike">
                <a:solidFill>
                  <a:srgbClr val="a50021"/>
                </a:solidFill>
                <a:latin typeface="Book Antiqua"/>
              </a:rPr>
              <a:t>greater challenge</a:t>
            </a:r>
            <a:r>
              <a:rPr b="1" i="1" lang="en-US" sz="3600" spc="-1" strike="noStrike">
                <a:solidFill>
                  <a:srgbClr val="a50021"/>
                </a:solidFill>
                <a:latin typeface="Book Antiqua"/>
              </a:rPr>
              <a:t> than evidence that the student knows a correct or valid answer</a:t>
            </a:r>
            <a:endParaRPr b="1" i="1" lang="en-US" sz="3600" spc="-1" strike="noStrike">
              <a:solidFill>
                <a:srgbClr val="a50021"/>
              </a:solidFill>
              <a:latin typeface="Book Antiqua"/>
            </a:endParaRPr>
          </a:p>
          <a:p>
            <a:pPr lvl="1" marL="681480" indent="-265680">
              <a:spcBef>
                <a:spcPts val="700"/>
              </a:spcBef>
              <a:buClr>
                <a:srgbClr val="0000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Understanding is inferred, not seen</a:t>
            </a:r>
            <a:endParaRPr b="1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681480" indent="-265680">
              <a:spcBef>
                <a:spcPts val="700"/>
              </a:spcBef>
              <a:buClr>
                <a:srgbClr val="0000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It can only be inferred if we see evidence that the student knows </a:t>
            </a:r>
            <a:r>
              <a:rPr b="1" i="1" lang="en-US" sz="2800" spc="-1" strike="noStrike">
                <a:solidFill>
                  <a:srgbClr val="000000"/>
                </a:solidFill>
                <a:latin typeface="Book Antiqua"/>
              </a:rPr>
              <a:t>why</a:t>
            </a: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 (it works) </a:t>
            </a:r>
            <a:r>
              <a:rPr b="1" i="1" lang="en-US" sz="2800" spc="-1" strike="noStrike">
                <a:solidFill>
                  <a:srgbClr val="000000"/>
                </a:solidFill>
                <a:latin typeface="Book Antiqua"/>
              </a:rPr>
              <a:t>so what?</a:t>
            </a: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 (why it matters), </a:t>
            </a:r>
            <a:r>
              <a:rPr b="1" i="1" lang="en-US" sz="2800" spc="-1" strike="noStrike">
                <a:solidFill>
                  <a:srgbClr val="000000"/>
                </a:solidFill>
                <a:latin typeface="Book Antiqua"/>
              </a:rPr>
              <a:t>how</a:t>
            </a: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 (to apply it) – not just knowing </a:t>
            </a:r>
            <a:r>
              <a:rPr b="1" i="1" lang="en-US" sz="2800" spc="-1" strike="noStrike">
                <a:solidFill>
                  <a:srgbClr val="000000"/>
                </a:solidFill>
                <a:latin typeface="Book Antiqua"/>
              </a:rPr>
              <a:t>that</a:t>
            </a: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 specific inference</a:t>
            </a:r>
            <a:endParaRPr b="1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218880"/>
            <a:ext cx="7758000" cy="115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0ff"/>
                </a:solidFill>
                <a:latin typeface="Arial"/>
              </a:rPr>
              <a:t>Why “backward”?</a:t>
            </a:r>
            <a:endParaRPr b="0" lang="en-US" sz="4400" spc="-1" strike="noStrike">
              <a:solidFill>
                <a:srgbClr val="4040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47560" y="1676520"/>
            <a:ext cx="7986960" cy="420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a50021"/>
                </a:solidFill>
                <a:latin typeface="Book Antiqua"/>
              </a:rPr>
              <a:t>The stages are logical but they go against habits</a:t>
            </a:r>
            <a:endParaRPr b="1" i="1" lang="en-US" sz="3600" spc="-1" strike="noStrike">
              <a:solidFill>
                <a:srgbClr val="a50021"/>
              </a:solidFill>
              <a:latin typeface="Book Antiqua"/>
            </a:endParaRPr>
          </a:p>
          <a:p>
            <a:pPr lvl="1" marL="718920" indent="-280080">
              <a:spcBef>
                <a:spcPts val="700"/>
              </a:spcBef>
              <a:buClr>
                <a:srgbClr val="0000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We’re used to jumping to lesson and activity ideas - before clarifying our performance goals for students</a:t>
            </a:r>
            <a:endParaRPr b="1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18920" indent="-280080">
              <a:spcBef>
                <a:spcPts val="700"/>
              </a:spcBef>
              <a:buClr>
                <a:srgbClr val="0000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By thinking through the assessments upfront, we ensure greater alignment of our goals and means, and that teaching is focused on desired results</a:t>
            </a:r>
            <a:endParaRPr b="1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transition>
    <p:dissolv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" descr=""/>
          <p:cNvPicPr/>
          <p:nvPr/>
        </p:nvPicPr>
        <p:blipFill>
          <a:blip r:embed="rId2"/>
          <a:stretch/>
        </p:blipFill>
        <p:spPr>
          <a:xfrm>
            <a:off x="7637400" y="304920"/>
            <a:ext cx="1430280" cy="914400"/>
          </a:xfrm>
          <a:prstGeom prst="rect">
            <a:avLst/>
          </a:prstGeom>
          <a:ln w="0">
            <a:noFill/>
          </a:ln>
        </p:spPr>
      </p:pic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533520" y="218880"/>
            <a:ext cx="7758000" cy="115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0ff"/>
                </a:solidFill>
                <a:latin typeface="Arial"/>
              </a:rPr>
              <a:t>Assessment of Understanding via the 6 facets</a:t>
            </a:r>
            <a:endParaRPr b="0" lang="en-US" sz="4400" spc="-1" strike="noStrike">
              <a:solidFill>
                <a:srgbClr val="4040ff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861048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a50021"/>
                </a:solidFill>
                <a:latin typeface="Book Antiqua"/>
              </a:rPr>
              <a:t>i.e. You </a:t>
            </a:r>
            <a:r>
              <a:rPr b="1" i="1" lang="en-US" sz="3600" spc="-1" strike="noStrike" u="sng">
                <a:solidFill>
                  <a:srgbClr val="a50021"/>
                </a:solidFill>
                <a:uFillTx/>
                <a:latin typeface="Book Antiqua"/>
              </a:rPr>
              <a:t>really</a:t>
            </a:r>
            <a:r>
              <a:rPr b="1" i="1" lang="en-US" sz="3600" spc="-1" strike="noStrike">
                <a:solidFill>
                  <a:srgbClr val="a50021"/>
                </a:solidFill>
                <a:latin typeface="Book Antiqua"/>
              </a:rPr>
              <a:t> understand when you can:</a:t>
            </a:r>
            <a:endParaRPr b="1" i="1" lang="en-US" sz="3600" spc="-1" strike="noStrike">
              <a:solidFill>
                <a:srgbClr val="a50021"/>
              </a:solidFill>
              <a:latin typeface="Book Antiqua"/>
            </a:endParaRPr>
          </a:p>
          <a:p>
            <a:pPr lvl="1" marL="718920" indent="-280080">
              <a:spcBef>
                <a:spcPts val="700"/>
              </a:spcBef>
              <a:buClr>
                <a:srgbClr val="0000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explain, connect, systematize, predict it</a:t>
            </a:r>
            <a:endParaRPr b="1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18920" indent="-280080">
              <a:spcBef>
                <a:spcPts val="700"/>
              </a:spcBef>
              <a:buClr>
                <a:srgbClr val="0000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show its meaning, importance</a:t>
            </a:r>
            <a:endParaRPr b="1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18920" indent="-280080">
              <a:spcBef>
                <a:spcPts val="700"/>
              </a:spcBef>
              <a:buClr>
                <a:srgbClr val="0000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apply or adapt it to novel situations</a:t>
            </a:r>
            <a:endParaRPr b="1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18920" indent="-280080">
              <a:spcBef>
                <a:spcPts val="700"/>
              </a:spcBef>
              <a:buClr>
                <a:srgbClr val="0000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see it as one plausible perspective among others, question its assumptions</a:t>
            </a:r>
            <a:endParaRPr b="1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18920" indent="-280080">
              <a:spcBef>
                <a:spcPts val="700"/>
              </a:spcBef>
              <a:buClr>
                <a:srgbClr val="0000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see it as its author/speaker saw it</a:t>
            </a:r>
            <a:endParaRPr b="1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18920" indent="-280080">
              <a:spcBef>
                <a:spcPts val="700"/>
              </a:spcBef>
              <a:buClr>
                <a:srgbClr val="0000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avoid and point out common misconceptions, biases, or simplistic views</a:t>
            </a:r>
            <a:endParaRPr b="1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transition>
    <p:dissolve/>
  </p:transition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0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3" dur="500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1500"/>
                            </p:stCondLst>
                            <p:childTnLst>
                              <p:par>
                                <p:cTn id="41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7" dur="500"/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3000"/>
                            </p:stCondLst>
                            <p:childTnLst>
                              <p:par>
                                <p:cTn id="41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1" dur="500"/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4500"/>
                            </p:stCondLst>
                            <p:childTnLst>
                              <p:par>
                                <p:cTn id="42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5" dur="500"/>
                                        <p:tgtEl>
                                          <p:spTgt spid="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6000"/>
                            </p:stCondLst>
                            <p:childTnLst>
                              <p:par>
                                <p:cTn id="42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9" dur="500"/>
                                        <p:tgtEl>
                                          <p:spTgt spid="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7500"/>
                            </p:stCondLst>
                            <p:childTnLst>
                              <p:par>
                                <p:cTn id="43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3" dur="500"/>
                                        <p:tgtEl>
                                          <p:spTgt spid="3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9000"/>
                            </p:stCondLst>
                            <p:childTnLst>
                              <p:par>
                                <p:cTn id="43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7" dur="500"/>
                                        <p:tgtEl>
                                          <p:spTgt spid="3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18880"/>
            <a:ext cx="7758000" cy="115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0ff"/>
                </a:solidFill>
                <a:latin typeface="Arial"/>
              </a:rPr>
              <a:t>Scenarios for Authentic Tasks</a:t>
            </a:r>
            <a:endParaRPr b="0" lang="en-US" sz="4400" spc="-1" strike="noStrike">
              <a:solidFill>
                <a:srgbClr val="4040ff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219320" y="1523880"/>
            <a:ext cx="7315200" cy="4724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a50021"/>
                </a:solidFill>
                <a:latin typeface="Book Antiqua"/>
              </a:rPr>
              <a:t>Build assessments anchored in authentic tasks using GRASPS:</a:t>
            </a:r>
            <a:endParaRPr b="1" i="1" lang="en-US" sz="3600" spc="-1" strike="noStrike">
              <a:solidFill>
                <a:srgbClr val="a50021"/>
              </a:solidFill>
              <a:latin typeface="Book Antiqua"/>
            </a:endParaRPr>
          </a:p>
          <a:p>
            <a:pPr lvl="1" marL="406440" indent="-29196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What is the </a:t>
            </a:r>
            <a:r>
              <a:rPr b="1" lang="en-US" sz="3600" spc="-1" strike="noStrike">
                <a:solidFill>
                  <a:srgbClr val="0033cc"/>
                </a:solidFill>
                <a:latin typeface="Book Antiqua"/>
              </a:rPr>
              <a:t>G</a:t>
            </a: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oal in the scenario?</a:t>
            </a:r>
            <a:endParaRPr b="1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406440" indent="-291960">
              <a:lnSpc>
                <a:spcPct val="70000"/>
              </a:lnSpc>
              <a:spcBef>
                <a:spcPts val="700"/>
              </a:spcBef>
              <a:buClr>
                <a:srgbClr val="0000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What is the </a:t>
            </a:r>
            <a:r>
              <a:rPr b="1" lang="en-US" sz="3600" spc="-1" strike="noStrike">
                <a:solidFill>
                  <a:srgbClr val="0033cc"/>
                </a:solidFill>
                <a:latin typeface="Book Antiqua"/>
              </a:rPr>
              <a:t>R</a:t>
            </a: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ole?</a:t>
            </a:r>
            <a:endParaRPr b="1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406440" indent="-291960">
              <a:lnSpc>
                <a:spcPct val="70000"/>
              </a:lnSpc>
              <a:spcBef>
                <a:spcPts val="700"/>
              </a:spcBef>
              <a:buClr>
                <a:srgbClr val="0000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Who is the </a:t>
            </a:r>
            <a:r>
              <a:rPr b="1" lang="en-US" sz="3600" spc="-1" strike="noStrike">
                <a:solidFill>
                  <a:srgbClr val="0033cc"/>
                </a:solidFill>
                <a:latin typeface="Book Antiqua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udience?</a:t>
            </a:r>
            <a:endParaRPr b="1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406440" indent="-291960">
              <a:lnSpc>
                <a:spcPct val="70000"/>
              </a:lnSpc>
              <a:spcBef>
                <a:spcPts val="700"/>
              </a:spcBef>
              <a:buClr>
                <a:srgbClr val="0000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What is your </a:t>
            </a:r>
            <a:r>
              <a:rPr b="1" lang="en-US" sz="4000" spc="-1" strike="noStrike">
                <a:solidFill>
                  <a:srgbClr val="0033cc"/>
                </a:solidFill>
                <a:latin typeface="Book Antiqua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ituation (context)?</a:t>
            </a:r>
            <a:endParaRPr b="1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406440" indent="-29196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What is the </a:t>
            </a:r>
            <a:r>
              <a:rPr b="1" lang="en-US" sz="3600" spc="-1" strike="noStrike">
                <a:solidFill>
                  <a:srgbClr val="0033cc"/>
                </a:solidFill>
                <a:latin typeface="Book Antiqua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erformance challenge?</a:t>
            </a:r>
            <a:endParaRPr b="1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406440" indent="-291960">
              <a:lnSpc>
                <a:spcPct val="70000"/>
              </a:lnSpc>
              <a:spcBef>
                <a:spcPts val="700"/>
              </a:spcBef>
              <a:buClr>
                <a:srgbClr val="0000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By what </a:t>
            </a:r>
            <a:r>
              <a:rPr b="1" lang="en-US" sz="3600" spc="-1" strike="noStrike">
                <a:solidFill>
                  <a:srgbClr val="4040ff"/>
                </a:solidFill>
                <a:latin typeface="Book Antiqua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tandards will work be judged in the scenario?</a:t>
            </a:r>
            <a:endParaRPr b="1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22" name=""/>
          <p:cNvSpPr/>
          <p:nvPr/>
        </p:nvSpPr>
        <p:spPr>
          <a:xfrm>
            <a:off x="633240" y="4023720"/>
            <a:ext cx="509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cc"/>
                </a:solidFill>
                <a:latin typeface="Times New Roman"/>
              </a:rPr>
              <a:t>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3240" y="4573080"/>
            <a:ext cx="509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cc"/>
                </a:solidFill>
                <a:latin typeface="Times New Roman"/>
              </a:rPr>
              <a:t>P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633240" y="5120640"/>
            <a:ext cx="509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cc"/>
                </a:solidFill>
                <a:latin typeface="Times New Roman"/>
              </a:rPr>
              <a:t>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33240" y="2377440"/>
            <a:ext cx="509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cc"/>
                </a:solidFill>
                <a:latin typeface="Times New Roman"/>
              </a:rPr>
              <a:t>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33240" y="2926800"/>
            <a:ext cx="509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cc"/>
                </a:solidFill>
                <a:latin typeface="Times New Roman"/>
              </a:rPr>
              <a:t>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33240" y="3476160"/>
            <a:ext cx="509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cc"/>
                </a:solidFill>
                <a:latin typeface="Times New Roman"/>
              </a:rPr>
              <a:t>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8305920" y="762120"/>
            <a:ext cx="457200" cy="457200"/>
          </a:xfrm>
          <a:prstGeom prst="ellipse">
            <a:avLst/>
          </a:prstGeom>
          <a:solidFill>
            <a:srgbClr val="114ff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3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1500"/>
                            </p:stCondLst>
                            <p:childTnLst>
                              <p:par>
                                <p:cTn id="447" nodeType="afterEffect" fill="hold" presetClass="entr" presetID="23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3000"/>
                            </p:stCondLst>
                            <p:childTnLst>
                              <p:par>
                                <p:cTn id="452" nodeType="afterEffect" fill="hold" presetClass="entr" presetID="23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4500"/>
                            </p:stCondLst>
                            <p:childTnLst>
                              <p:par>
                                <p:cTn id="457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6000"/>
                            </p:stCondLst>
                            <p:childTnLst>
                              <p:par>
                                <p:cTn id="462" nodeType="afterEffect" fill="hold" presetClass="entr" presetID="23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7500"/>
                            </p:stCondLst>
                            <p:childTnLst>
                              <p:par>
                                <p:cTn id="467" nodeType="afterEffect" fill="hold" presetClass="entr" presetID="23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9000"/>
                            </p:stCondLst>
                            <p:childTnLst>
                              <p:par>
                                <p:cTn id="472" nodeType="afterEffect" fill="hold" presetClass="entr" presetID="23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10500"/>
                            </p:stCondLst>
                            <p:childTnLst>
                              <p:par>
                                <p:cTn id="47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9" dur="500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12000"/>
                            </p:stCondLst>
                            <p:childTnLst>
                              <p:par>
                                <p:cTn id="48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3" dur="500"/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13500"/>
                            </p:stCondLst>
                            <p:childTnLst>
                              <p:par>
                                <p:cTn id="48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7" dur="500"/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15000"/>
                            </p:stCondLst>
                            <p:childTnLst>
                              <p:par>
                                <p:cTn id="48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1" dur="500"/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16500"/>
                            </p:stCondLst>
                            <p:childTnLst>
                              <p:par>
                                <p:cTn id="49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5" dur="500"/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18000"/>
                            </p:stCondLst>
                            <p:childTnLst>
                              <p:par>
                                <p:cTn id="49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9" dur="500"/>
                                        <p:tgtEl>
                                          <p:spTgt spid="3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19500"/>
                            </p:stCondLst>
                            <p:childTnLst>
                              <p:par>
                                <p:cTn id="50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3" dur="500"/>
                                        <p:tgtEl>
                                          <p:spTgt spid="3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33520" y="218880"/>
            <a:ext cx="7758000" cy="115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0ff"/>
                </a:solidFill>
                <a:latin typeface="Arial"/>
              </a:rPr>
              <a:t>Reliability: Snapshot vs. </a:t>
            </a:r>
            <a:br>
              <a:rPr sz="4400"/>
            </a:br>
            <a:r>
              <a:rPr b="0" lang="en-US" sz="4400" spc="-1" strike="noStrike">
                <a:solidFill>
                  <a:srgbClr val="4040ff"/>
                </a:solidFill>
                <a:latin typeface="Arial"/>
              </a:rPr>
              <a:t>Photo Album</a:t>
            </a:r>
            <a:endParaRPr b="0" lang="en-US" sz="4400" spc="-1" strike="noStrike">
              <a:solidFill>
                <a:srgbClr val="4040ff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547560" y="1362240"/>
            <a:ext cx="7986960" cy="420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a50021"/>
                </a:solidFill>
                <a:latin typeface="Book Antiqua"/>
              </a:rPr>
              <a:t>We need patterns that overcome inherent measurement error</a:t>
            </a:r>
            <a:endParaRPr b="1" i="1" lang="en-US" sz="4000" spc="-1" strike="noStrike">
              <a:solidFill>
                <a:srgbClr val="a50021"/>
              </a:solidFill>
              <a:latin typeface="Book Antiqua"/>
            </a:endParaRPr>
          </a:p>
          <a:p>
            <a:pPr lvl="1" marL="749160" indent="-291960">
              <a:spcBef>
                <a:spcPts val="700"/>
              </a:spcBef>
              <a:buClr>
                <a:srgbClr val="0000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Sound assessment (particularly of State Standards) requires multiple evidence over time - a photo album vs. a single snapshot</a:t>
            </a:r>
            <a:endParaRPr b="1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331" name="" descr=""/>
          <p:cNvPicPr/>
          <p:nvPr/>
        </p:nvPicPr>
        <p:blipFill>
          <a:blip r:embed="rId2"/>
          <a:stretch/>
        </p:blipFill>
        <p:spPr>
          <a:xfrm>
            <a:off x="3733920" y="4038480"/>
            <a:ext cx="3504960" cy="23083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0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547560" y="228240"/>
            <a:ext cx="7986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0ff"/>
                </a:solidFill>
                <a:latin typeface="Arial"/>
              </a:rPr>
              <a:t>For Reliability &amp; Sufficiency:</a:t>
            </a:r>
            <a:br>
              <a:rPr sz="4400"/>
            </a:br>
            <a:r>
              <a:rPr b="0" lang="en-US" sz="4400" spc="-1" strike="noStrike">
                <a:solidFill>
                  <a:srgbClr val="4040ff"/>
                </a:solidFill>
                <a:latin typeface="Arial"/>
              </a:rPr>
              <a:t>Use a Variety of Assessments</a:t>
            </a:r>
            <a:endParaRPr b="0" lang="en-US" sz="4400" spc="-1" strike="noStrike">
              <a:solidFill>
                <a:srgbClr val="4040ff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547560" y="1600200"/>
            <a:ext cx="7986960" cy="4657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ctr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a50021"/>
                </a:solidFill>
                <a:latin typeface="Book Antiqua"/>
              </a:rPr>
              <a:t>Varied types, over time:</a:t>
            </a:r>
            <a:endParaRPr b="1" i="1" lang="en-US" sz="4000" spc="-1" strike="noStrike">
              <a:solidFill>
                <a:srgbClr val="a50021"/>
              </a:solidFill>
              <a:latin typeface="Book Antiqua"/>
            </a:endParaRPr>
          </a:p>
          <a:p>
            <a:pPr lvl="1" marL="749160" indent="-291960">
              <a:lnSpc>
                <a:spcPct val="110000"/>
              </a:lnSpc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authentic tasks and projects</a:t>
            </a:r>
            <a:endParaRPr b="1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9160" indent="-291960">
              <a:lnSpc>
                <a:spcPct val="110000"/>
              </a:lnSpc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academic exam questions, prompts, and problems</a:t>
            </a:r>
            <a:endParaRPr b="1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9160" indent="-291960">
              <a:lnSpc>
                <a:spcPct val="110000"/>
              </a:lnSpc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quizzes and test items</a:t>
            </a:r>
            <a:endParaRPr b="1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9160" indent="-291960">
              <a:lnSpc>
                <a:spcPct val="110000"/>
              </a:lnSpc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informal checks for understanding </a:t>
            </a:r>
            <a:endParaRPr b="1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9160" indent="-291960">
              <a:lnSpc>
                <a:spcPct val="110000"/>
              </a:lnSpc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student self-assessments</a:t>
            </a:r>
            <a:endParaRPr b="1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transition>
    <p:dissolve/>
  </p:transition>
  <p:timing>
    <p:tnLst>
      <p:par>
        <p:cTn id="512" dur="indefinite" restart="never" nodeType="tmRoot">
          <p:childTnLst>
            <p:seq>
              <p:cTn id="513" dur="indefinite" nodeType="mainSeq">
                <p:childTnLst>
                  <p:par>
                    <p:cTn id="514" fill="hold">
                      <p:stCondLst>
                        <p:cond delay="0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8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1500"/>
                            </p:stCondLst>
                            <p:childTnLst>
                              <p:par>
                                <p:cTn id="52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2" dur="500"/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fill="hold">
                            <p:stCondLst>
                              <p:cond delay="3000"/>
                            </p:stCondLst>
                            <p:childTnLst>
                              <p:par>
                                <p:cTn id="52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6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4500"/>
                            </p:stCondLst>
                            <p:childTnLst>
                              <p:par>
                                <p:cTn id="52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0" dur="500"/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fill="hold">
                            <p:stCondLst>
                              <p:cond delay="6000"/>
                            </p:stCondLst>
                            <p:childTnLst>
                              <p:par>
                                <p:cTn id="53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4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7500"/>
                            </p:stCondLst>
                            <p:childTnLst>
                              <p:par>
                                <p:cTn id="536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8" dur="500"/>
                                        <p:tgtEl>
                                          <p:spTgt spid="3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33520" y="218880"/>
            <a:ext cx="7758000" cy="115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0ff"/>
                </a:solidFill>
                <a:latin typeface="Arial"/>
              </a:rPr>
              <a:t>Some key understandings about assessment</a:t>
            </a:r>
            <a:endParaRPr b="0" lang="en-US" sz="4400" spc="-1" strike="noStrike">
              <a:solidFill>
                <a:srgbClr val="4040ff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304920" y="1438200"/>
            <a:ext cx="8534160" cy="420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2000"/>
          </a:bodyPr>
          <a:p>
            <a:pPr lvl="1" marL="614160" indent="-239400">
              <a:spcBef>
                <a:spcPts val="700"/>
              </a:spcBef>
              <a:buClr>
                <a:srgbClr val="0000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The local assessment is </a:t>
            </a:r>
            <a:r>
              <a:rPr b="1" lang="en-US" sz="2800" spc="-1" strike="noStrike">
                <a:solidFill>
                  <a:srgbClr val="a50021"/>
                </a:solidFill>
                <a:latin typeface="Book Antiqua"/>
              </a:rPr>
              <a:t>direct</a:t>
            </a: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; the state assessment is </a:t>
            </a:r>
            <a:r>
              <a:rPr b="1" lang="en-US" sz="2800" spc="-1" strike="noStrike">
                <a:solidFill>
                  <a:srgbClr val="a50021"/>
                </a:solidFill>
                <a:latin typeface="Book Antiqua"/>
              </a:rPr>
              <a:t>indirect</a:t>
            </a: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 (an </a:t>
            </a:r>
            <a:r>
              <a:rPr b="1" i="1" lang="en-US" sz="2800" spc="-1" strike="noStrike">
                <a:solidFill>
                  <a:srgbClr val="000000"/>
                </a:solidFill>
                <a:latin typeface="Book Antiqua"/>
              </a:rPr>
              <a:t>audit</a:t>
            </a: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 of local work)</a:t>
            </a:r>
            <a:endParaRPr b="1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2" marL="937080" indent="-187200">
              <a:spcBef>
                <a:spcPts val="601"/>
              </a:spcBef>
              <a:buClr>
                <a:srgbClr val="0000ff"/>
              </a:buClr>
              <a:buSzPct val="65000"/>
              <a:buFont typeface="Monotype Sorts" charset="2"/>
              <a:buChar char="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It is therefore </a:t>
            </a: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always unwise to merely mimic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the state’s assessment approaches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614160" indent="-239400">
              <a:spcBef>
                <a:spcPts val="700"/>
              </a:spcBef>
              <a:buClr>
                <a:srgbClr val="0000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The only way to assess for understanding is via contextualized performance - “applying” in the broadest sense our knowledge and skill, wisely and effectively</a:t>
            </a:r>
            <a:endParaRPr b="1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2" marL="937080" indent="-187200">
              <a:spcBef>
                <a:spcPts val="601"/>
              </a:spcBef>
              <a:buClr>
                <a:srgbClr val="0000ff"/>
              </a:buClr>
              <a:buSzPct val="65000"/>
              <a:buFont typeface="Monotype Sorts" charset="2"/>
              <a:buChar char="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Performance is more than the sum of the drills: using only conventional quizzes and tests is insufficient and as misleading  as relying only on sideline drills to judge athletic performance ability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transition>
    <p:dissolv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6" name=""/>
          <p:cNvGrpSpPr/>
          <p:nvPr/>
        </p:nvGrpSpPr>
        <p:grpSpPr>
          <a:xfrm>
            <a:off x="533520" y="1828800"/>
            <a:ext cx="6324480" cy="762120"/>
            <a:chOff x="533520" y="1828800"/>
            <a:chExt cx="6324480" cy="762120"/>
          </a:xfrm>
        </p:grpSpPr>
        <p:sp>
          <p:nvSpPr>
            <p:cNvPr id="337" name=""/>
            <p:cNvSpPr/>
            <p:nvPr/>
          </p:nvSpPr>
          <p:spPr>
            <a:xfrm>
              <a:off x="533520" y="1828800"/>
              <a:ext cx="6235560" cy="76212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77777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62120" y="1882800"/>
              <a:ext cx="6095880" cy="5763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Book Antiqua"/>
                </a:rPr>
                <a:t>1. Identify desired result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9" name=""/>
          <p:cNvSpPr/>
          <p:nvPr/>
        </p:nvSpPr>
        <p:spPr>
          <a:xfrm>
            <a:off x="1073160" y="2978280"/>
            <a:ext cx="7378560" cy="1054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917640" y="3254400"/>
            <a:ext cx="76168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2. Determine acceptable evid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911240" y="4508640"/>
            <a:ext cx="6769080" cy="1332000"/>
            <a:chOff x="1911240" y="4508640"/>
            <a:chExt cx="6769080" cy="1332000"/>
          </a:xfrm>
        </p:grpSpPr>
        <p:sp>
          <p:nvSpPr>
            <p:cNvPr id="342" name=""/>
            <p:cNvSpPr/>
            <p:nvPr/>
          </p:nvSpPr>
          <p:spPr>
            <a:xfrm>
              <a:off x="1911240" y="4508640"/>
              <a:ext cx="6769080" cy="1282680"/>
            </a:xfrm>
            <a:prstGeom prst="rect">
              <a:avLst/>
            </a:prstGeom>
            <a:solidFill>
              <a:srgbClr val="99ff66"/>
            </a:solidFill>
            <a:ln w="1260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77777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1981080" y="4654440"/>
              <a:ext cx="6629400" cy="118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Book Antiqua"/>
                </a:rPr>
                <a:t>3. Plan learning experiences 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Book Antiqua"/>
                </a:rPr>
                <a:t>  </a:t>
              </a:r>
              <a:r>
                <a:rPr b="1" lang="en-US" sz="3600" spc="-1" strike="noStrike">
                  <a:solidFill>
                    <a:srgbClr val="000000"/>
                  </a:solidFill>
                  <a:latin typeface="Book Antiqua"/>
                </a:rPr>
                <a:t>&amp; instruction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33520" y="76320"/>
            <a:ext cx="775800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0ff"/>
                </a:solidFill>
                <a:latin typeface="Arial"/>
              </a:rPr>
              <a:t>3 Stages of Design: </a:t>
            </a:r>
            <a:br>
              <a:rPr sz="4400"/>
            </a:br>
            <a:r>
              <a:rPr b="0" lang="en-US" sz="4400" spc="-1" strike="noStrike">
                <a:solidFill>
                  <a:srgbClr val="4040ff"/>
                </a:solidFill>
                <a:latin typeface="Arial"/>
              </a:rPr>
              <a:t>Stage 3</a:t>
            </a:r>
            <a:endParaRPr b="0" lang="en-US" sz="4400" spc="-1" strike="noStrike">
              <a:solidFill>
                <a:srgbClr val="4040ff"/>
              </a:solidFill>
              <a:latin typeface="Arial"/>
            </a:endParaRPr>
          </a:p>
        </p:txBody>
      </p:sp>
      <p:graphicFrame>
        <p:nvGraphicFramePr>
          <p:cNvPr id="345" name=""/>
          <p:cNvGraphicFramePr/>
          <p:nvPr/>
        </p:nvGraphicFramePr>
        <p:xfrm>
          <a:off x="7162920" y="152280"/>
          <a:ext cx="1650960" cy="1084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6" name="" descr="">
                    <a:hlinkClick r:id="rId2"/>
                  </p:cNvPr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162920" y="152280"/>
                    <a:ext cx="1650960" cy="108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dissolve/>
  </p:transition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fill="hold">
                      <p:stCondLst>
                        <p:cond delay="0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afterEffect" fill="hold" presetClass="entr" presetID="23" presetSubtype="28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533520" y="220680"/>
            <a:ext cx="775800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0ff"/>
                </a:solidFill>
                <a:latin typeface="Arial"/>
              </a:rPr>
              <a:t>Stage 3 big idea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8" name=""/>
          <p:cNvGrpSpPr/>
          <p:nvPr/>
        </p:nvGrpSpPr>
        <p:grpSpPr>
          <a:xfrm>
            <a:off x="1371600" y="1523880"/>
            <a:ext cx="4343400" cy="4572000"/>
            <a:chOff x="1371600" y="1523880"/>
            <a:chExt cx="4343400" cy="4572000"/>
          </a:xfrm>
        </p:grpSpPr>
        <p:sp>
          <p:nvSpPr>
            <p:cNvPr id="349" name=""/>
            <p:cNvSpPr/>
            <p:nvPr/>
          </p:nvSpPr>
          <p:spPr>
            <a:xfrm>
              <a:off x="1371600" y="1523880"/>
              <a:ext cx="4343400" cy="4486320"/>
            </a:xfrm>
            <a:prstGeom prst="ellipse">
              <a:avLst/>
            </a:prstGeom>
            <a:noFill/>
            <a:ln w="101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86000" y="1895400"/>
              <a:ext cx="1295280" cy="420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lvl="1" marL="749160" indent="-291960">
                <a:lnSpc>
                  <a:spcPct val="8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0066"/>
                  </a:solidFill>
                  <a:latin typeface="Book Antiqua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9160" indent="-291960">
                <a:lnSpc>
                  <a:spcPct val="8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0066"/>
                  </a:solidFill>
                  <a:latin typeface="Book Antiqua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9160" indent="-291960">
                <a:lnSpc>
                  <a:spcPct val="8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0066"/>
                  </a:solidFill>
                  <a:latin typeface="Book Antiqua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9160" indent="-291960">
                <a:lnSpc>
                  <a:spcPct val="8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0066"/>
                  </a:solidFill>
                  <a:latin typeface="Book Antiqua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9160" indent="-291960">
                <a:lnSpc>
                  <a:spcPct val="8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0066"/>
                  </a:solidFill>
                  <a:latin typeface="Book Antiqua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9160" indent="-291960">
                <a:lnSpc>
                  <a:spcPct val="8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0066"/>
                  </a:solidFill>
                  <a:latin typeface="Book Antiqua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9160" indent="-291960">
                <a:lnSpc>
                  <a:spcPct val="8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0066"/>
                  </a:solidFill>
                  <a:latin typeface="Book Antiqua"/>
                </a:rPr>
                <a:t>I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9160" indent="-291960">
                <a:lnSpc>
                  <a:spcPct val="8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0066"/>
                  </a:solidFill>
                  <a:latin typeface="Book Antiqua"/>
                </a:rPr>
                <a:t>V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9160" indent="-291960">
                <a:lnSpc>
                  <a:spcPct val="8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0066"/>
                  </a:solidFill>
                  <a:latin typeface="Book Antiqua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1" name=""/>
          <p:cNvGrpSpPr/>
          <p:nvPr/>
        </p:nvGrpSpPr>
        <p:grpSpPr>
          <a:xfrm>
            <a:off x="3581280" y="1905120"/>
            <a:ext cx="2057400" cy="3733200"/>
            <a:chOff x="3581280" y="1905120"/>
            <a:chExt cx="2057400" cy="3733200"/>
          </a:xfrm>
        </p:grpSpPr>
        <p:sp>
          <p:nvSpPr>
            <p:cNvPr id="352" name=""/>
            <p:cNvSpPr/>
            <p:nvPr/>
          </p:nvSpPr>
          <p:spPr>
            <a:xfrm>
              <a:off x="3581280" y="1905120"/>
              <a:ext cx="2057400" cy="373320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886200" y="3240720"/>
              <a:ext cx="14716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400" spc="-1" strike="noStrike">
                  <a:solidFill>
                    <a:srgbClr val="000000"/>
                  </a:solidFill>
                  <a:latin typeface="Times New Roman"/>
                </a:rPr>
                <a:t>and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4" name=""/>
          <p:cNvGrpSpPr/>
          <p:nvPr/>
        </p:nvGrpSpPr>
        <p:grpSpPr>
          <a:xfrm>
            <a:off x="3505320" y="1523880"/>
            <a:ext cx="4343400" cy="4800600"/>
            <a:chOff x="3505320" y="1523880"/>
            <a:chExt cx="4343400" cy="4800600"/>
          </a:xfrm>
        </p:grpSpPr>
        <p:sp>
          <p:nvSpPr>
            <p:cNvPr id="355" name=""/>
            <p:cNvSpPr/>
            <p:nvPr/>
          </p:nvSpPr>
          <p:spPr>
            <a:xfrm>
              <a:off x="3505320" y="1523880"/>
              <a:ext cx="4343400" cy="4562640"/>
            </a:xfrm>
            <a:prstGeom prst="ellipse">
              <a:avLst/>
            </a:prstGeom>
            <a:noFill/>
            <a:ln w="101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410080" y="2124000"/>
              <a:ext cx="1295640" cy="420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lvl="1" marL="749160" indent="-291960">
                <a:lnSpc>
                  <a:spcPct val="8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Book Antiqua"/>
                </a:rPr>
                <a:t>	</a:t>
              </a:r>
              <a:r>
                <a:rPr b="1" lang="en-US" sz="3200" spc="-1" strike="noStrike">
                  <a:solidFill>
                    <a:srgbClr val="a50021"/>
                  </a:solidFill>
                  <a:latin typeface="Book Antiqua"/>
                </a:rPr>
                <a:t>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9160" indent="-291960">
                <a:lnSpc>
                  <a:spcPct val="8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50021"/>
                  </a:solidFill>
                  <a:latin typeface="Book Antiqua"/>
                </a:rPr>
                <a:t>	</a:t>
              </a:r>
              <a:r>
                <a:rPr b="1" lang="en-US" sz="3200" spc="-1" strike="noStrike">
                  <a:solidFill>
                    <a:srgbClr val="a50021"/>
                  </a:solidFill>
                  <a:latin typeface="Book Antiqua"/>
                </a:rPr>
                <a:t>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9160" indent="-291960">
                <a:lnSpc>
                  <a:spcPct val="8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50021"/>
                  </a:solidFill>
                  <a:latin typeface="Book Antiqua"/>
                </a:rPr>
                <a:t>	</a:t>
              </a:r>
              <a:r>
                <a:rPr b="1" lang="en-US" sz="3200" spc="-1" strike="noStrike">
                  <a:solidFill>
                    <a:srgbClr val="a50021"/>
                  </a:solidFill>
                  <a:latin typeface="Book Antiqua"/>
                </a:rPr>
                <a:t>G</a:t>
              </a:r>
              <a:br>
                <a:rPr sz="3200"/>
              </a:br>
              <a:r>
                <a:rPr b="1" lang="en-US" sz="3200" spc="-1" strike="noStrike">
                  <a:solidFill>
                    <a:srgbClr val="a50021"/>
                  </a:solidFill>
                  <a:latin typeface="Book Antiqua"/>
                </a:rPr>
                <a:t>A</a:t>
              </a:r>
              <a:br>
                <a:rPr sz="3200"/>
              </a:br>
              <a:r>
                <a:rPr b="1" lang="en-US" sz="3200" spc="-1" strike="noStrike">
                  <a:solidFill>
                    <a:srgbClr val="a50021"/>
                  </a:solidFill>
                  <a:latin typeface="Book Antiqua"/>
                </a:rPr>
                <a:t>G</a:t>
              </a:r>
              <a:br>
                <a:rPr sz="3200"/>
              </a:br>
              <a:r>
                <a:rPr b="1" lang="en-US" sz="3200" spc="-1" strike="noStrike">
                  <a:solidFill>
                    <a:srgbClr val="a50021"/>
                  </a:solidFill>
                  <a:latin typeface="Book Antiqua"/>
                </a:rPr>
                <a:t>IN</a:t>
              </a:r>
              <a:br>
                <a:rPr sz="3200"/>
              </a:br>
              <a:r>
                <a:rPr b="1" lang="en-US" sz="3200" spc="-1" strike="noStrike">
                  <a:solidFill>
                    <a:srgbClr val="a50021"/>
                  </a:solidFill>
                  <a:latin typeface="Book Antiqua"/>
                </a:rPr>
                <a:t>G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57" name="" descr=""/>
          <p:cNvPicPr/>
          <p:nvPr/>
        </p:nvPicPr>
        <p:blipFill>
          <a:blip r:embed="rId2"/>
          <a:stretch/>
        </p:blipFill>
        <p:spPr>
          <a:xfrm>
            <a:off x="7086600" y="82440"/>
            <a:ext cx="1785960" cy="1898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58000" cy="115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0ff"/>
                </a:solidFill>
                <a:latin typeface="Arial"/>
              </a:rPr>
              <a:t>Stage 3 – Plan Learning Experiences &amp; Instruction</a:t>
            </a:r>
            <a:endParaRPr b="0" lang="en-US" sz="4400" spc="-1" strike="noStrike">
              <a:solidFill>
                <a:srgbClr val="4040ff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77440" y="1447920"/>
            <a:ext cx="7986600" cy="420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6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a50021"/>
                </a:solidFill>
                <a:latin typeface="Book Antiqua"/>
              </a:rPr>
              <a:t>A focus on </a:t>
            </a:r>
            <a:r>
              <a:rPr b="1" i="1" lang="en-US" sz="4000" spc="-1" strike="noStrike">
                <a:solidFill>
                  <a:srgbClr val="000000"/>
                </a:solidFill>
                <a:latin typeface="Book Antiqua"/>
              </a:rPr>
              <a:t>engaging</a:t>
            </a:r>
            <a:r>
              <a:rPr b="1" i="1" lang="en-US" sz="4000" spc="-1" strike="noStrike">
                <a:solidFill>
                  <a:srgbClr val="009900"/>
                </a:solidFill>
                <a:latin typeface="Book Antiqua"/>
              </a:rPr>
              <a:t> </a:t>
            </a:r>
            <a:r>
              <a:rPr b="1" i="1" lang="en-US" sz="4000" spc="-1" strike="noStrike">
                <a:solidFill>
                  <a:srgbClr val="a50021"/>
                </a:solidFill>
                <a:latin typeface="Book Antiqua"/>
              </a:rPr>
              <a:t>and</a:t>
            </a:r>
            <a:r>
              <a:rPr b="1" i="1" lang="en-US" sz="4000" spc="-1" strike="noStrike">
                <a:solidFill>
                  <a:srgbClr val="009900"/>
                </a:solidFill>
                <a:latin typeface="Book Antiqua"/>
              </a:rPr>
              <a:t> </a:t>
            </a:r>
            <a:r>
              <a:rPr b="1" i="1" lang="en-US" sz="4000" spc="-1" strike="noStrike">
                <a:solidFill>
                  <a:srgbClr val="000000"/>
                </a:solidFill>
                <a:latin typeface="Book Antiqua"/>
              </a:rPr>
              <a:t>effective</a:t>
            </a:r>
            <a:r>
              <a:rPr b="1" i="1" lang="en-US" sz="4000" spc="-1" strike="noStrike">
                <a:solidFill>
                  <a:srgbClr val="a50021"/>
                </a:solidFill>
                <a:latin typeface="Book Antiqua"/>
              </a:rPr>
              <a:t> learning, “designed in”</a:t>
            </a:r>
            <a:endParaRPr b="1" i="1" lang="en-US" sz="4000" spc="-1" strike="noStrike">
              <a:solidFill>
                <a:srgbClr val="a50021"/>
              </a:solidFill>
              <a:latin typeface="Book Antiqua"/>
            </a:endParaRPr>
          </a:p>
          <a:p>
            <a:pPr lvl="1" marL="349200" indent="-25092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What learning experiences and instruction will promote the desired understanding, knowledge and skill of Stage 1?</a:t>
            </a:r>
            <a:endParaRPr b="1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349200" indent="-25092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How will the design ensure that all students are maximally engaged and effective at meeting the goals? </a:t>
            </a:r>
            <a:endParaRPr b="1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60" name=""/>
          <p:cNvSpPr/>
          <p:nvPr/>
        </p:nvSpPr>
        <p:spPr>
          <a:xfrm>
            <a:off x="8381880" y="2286000"/>
            <a:ext cx="457200" cy="457200"/>
          </a:xfrm>
          <a:prstGeom prst="ellipse">
            <a:avLst/>
          </a:prstGeom>
          <a:solidFill>
            <a:srgbClr val="114ff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Arial"/>
              </a:rPr>
              <a:t>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fill="hold">
                      <p:stCondLst>
                        <p:cond delay="0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33520" y="218880"/>
            <a:ext cx="7758000" cy="115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0ff"/>
                </a:solidFill>
                <a:latin typeface="Arial"/>
              </a:rPr>
              <a:t>Think of your obligations via </a:t>
            </a:r>
            <a:br>
              <a:rPr sz="4400"/>
            </a:br>
            <a:r>
              <a:rPr b="0" lang="en-US" sz="4400" spc="-1" strike="noStrike">
                <a:solidFill>
                  <a:srgbClr val="4040ff"/>
                </a:solidFill>
                <a:latin typeface="Arial"/>
              </a:rPr>
              <a:t>W. H. E. R. E. T. O.</a:t>
            </a:r>
            <a:endParaRPr b="0" lang="en-US" sz="4400" spc="-1" strike="noStrike">
              <a:solidFill>
                <a:srgbClr val="4040ff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83432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9000"/>
          </a:bodyPr>
          <a:p>
            <a:pPr marL="259560" indent="0">
              <a:spcBef>
                <a:spcPts val="649"/>
              </a:spcBef>
              <a:buNone/>
              <a:tabLst>
                <a:tab algn="l" pos="0"/>
                <a:tab algn="l" pos="750960"/>
                <a:tab algn="l" pos="1501920"/>
                <a:tab algn="l" pos="2252520"/>
                <a:tab algn="l" pos="3003480"/>
                <a:tab algn="l" pos="3754440"/>
                <a:tab algn="l" pos="4505400"/>
                <a:tab algn="l" pos="5256360"/>
                <a:tab algn="l" pos="6006960"/>
                <a:tab algn="l" pos="6757920"/>
                <a:tab algn="l" pos="7508880"/>
                <a:tab algn="l" pos="8259840"/>
                <a:tab algn="l" pos="9010800"/>
                <a:tab algn="l" pos="9761400"/>
                <a:tab algn="l" pos="1051236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Book Antiqua"/>
              </a:rPr>
              <a:t>“</a:t>
            </a:r>
            <a:r>
              <a:rPr b="1" lang="en-US" sz="2600" spc="-1" strike="noStrike">
                <a:solidFill>
                  <a:srgbClr val="a50021"/>
                </a:solidFill>
                <a:latin typeface="Book Antiqua"/>
              </a:rPr>
              <a:t>Where</a:t>
            </a:r>
            <a:r>
              <a:rPr b="1" lang="en-US" sz="2600" spc="-1" strike="noStrike">
                <a:solidFill>
                  <a:srgbClr val="000000"/>
                </a:solidFill>
                <a:latin typeface="Book Antiqua"/>
              </a:rPr>
              <a:t> are we headed?”</a:t>
            </a:r>
            <a:r>
              <a:rPr b="1" lang="en-US" sz="3000" spc="-1" strike="noStrike">
                <a:solidFill>
                  <a:srgbClr val="000000"/>
                </a:solidFill>
                <a:latin typeface="Book Antiqua"/>
              </a:rPr>
              <a:t> (the </a:t>
            </a:r>
            <a:r>
              <a:rPr b="1" i="1" lang="en-US" sz="2600" spc="-1" strike="noStrike">
                <a:solidFill>
                  <a:srgbClr val="000000"/>
                </a:solidFill>
                <a:latin typeface="Book Antiqua"/>
              </a:rPr>
              <a:t>student’s</a:t>
            </a:r>
            <a:r>
              <a:rPr b="1" lang="en-US" sz="2600" spc="-1" strike="noStrike">
                <a:solidFill>
                  <a:srgbClr val="000000"/>
                </a:solidFill>
                <a:latin typeface="Book Antiqua"/>
              </a:rPr>
              <a:t> Q!) </a:t>
            </a:r>
            <a:endParaRPr b="1" i="1" lang="en-US" sz="2600" spc="-1" strike="noStrike">
              <a:solidFill>
                <a:srgbClr val="a50021"/>
              </a:solidFill>
              <a:latin typeface="Book Antiqua"/>
            </a:endParaRPr>
          </a:p>
          <a:p>
            <a:pPr marL="259560" indent="0">
              <a:spcBef>
                <a:spcPts val="649"/>
              </a:spcBef>
              <a:buNone/>
              <a:tabLst>
                <a:tab algn="l" pos="0"/>
                <a:tab algn="l" pos="750960"/>
                <a:tab algn="l" pos="1501920"/>
                <a:tab algn="l" pos="2252520"/>
                <a:tab algn="l" pos="3003480"/>
                <a:tab algn="l" pos="3754440"/>
                <a:tab algn="l" pos="4505400"/>
                <a:tab algn="l" pos="5256360"/>
                <a:tab algn="l" pos="6006960"/>
                <a:tab algn="l" pos="6757920"/>
                <a:tab algn="l" pos="7508880"/>
                <a:tab algn="l" pos="8259840"/>
                <a:tab algn="l" pos="9010800"/>
                <a:tab algn="l" pos="9761400"/>
                <a:tab algn="l" pos="1051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Book Antiqua"/>
              </a:rPr>
              <a:t>How will the student be ‘</a:t>
            </a:r>
            <a:r>
              <a:rPr b="1" lang="en-US" sz="2600" spc="-1" strike="noStrike">
                <a:solidFill>
                  <a:srgbClr val="a50021"/>
                </a:solidFill>
                <a:latin typeface="Book Antiqua"/>
              </a:rPr>
              <a:t>hooked’</a:t>
            </a:r>
            <a:r>
              <a:rPr b="1" lang="en-US" sz="2600" spc="-1" strike="noStrike">
                <a:solidFill>
                  <a:srgbClr val="000000"/>
                </a:solidFill>
                <a:latin typeface="Book Antiqua"/>
              </a:rPr>
              <a:t>?</a:t>
            </a:r>
            <a:endParaRPr b="1" i="1" lang="en-US" sz="2600" spc="-1" strike="noStrike">
              <a:solidFill>
                <a:srgbClr val="a50021"/>
              </a:solidFill>
              <a:latin typeface="Book Antiqua"/>
            </a:endParaRPr>
          </a:p>
          <a:p>
            <a:pPr marL="259560" indent="0">
              <a:spcBef>
                <a:spcPts val="649"/>
              </a:spcBef>
              <a:buNone/>
              <a:tabLst>
                <a:tab algn="l" pos="0"/>
                <a:tab algn="l" pos="750960"/>
                <a:tab algn="l" pos="1501920"/>
                <a:tab algn="l" pos="2252520"/>
                <a:tab algn="l" pos="3003480"/>
                <a:tab algn="l" pos="3754440"/>
                <a:tab algn="l" pos="4505400"/>
                <a:tab algn="l" pos="5256360"/>
                <a:tab algn="l" pos="6006960"/>
                <a:tab algn="l" pos="6757920"/>
                <a:tab algn="l" pos="7508880"/>
                <a:tab algn="l" pos="8259840"/>
                <a:tab algn="l" pos="9010800"/>
                <a:tab algn="l" pos="9761400"/>
                <a:tab algn="l" pos="1051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Book Antiqua"/>
              </a:rPr>
              <a:t>What opportunities will there be to be </a:t>
            </a:r>
            <a:r>
              <a:rPr b="1" lang="en-US" sz="2600" spc="-1" strike="noStrike">
                <a:solidFill>
                  <a:srgbClr val="a50021"/>
                </a:solidFill>
                <a:latin typeface="Book Antiqua"/>
              </a:rPr>
              <a:t>equipped, </a:t>
            </a:r>
            <a:r>
              <a:rPr b="1" lang="en-US" sz="2600" spc="-1" strike="noStrike">
                <a:solidFill>
                  <a:srgbClr val="000000"/>
                </a:solidFill>
                <a:latin typeface="Book Antiqua"/>
              </a:rPr>
              <a:t>and to</a:t>
            </a:r>
            <a:r>
              <a:rPr b="1" lang="en-US" sz="2600" spc="-1" strike="noStrike">
                <a:solidFill>
                  <a:srgbClr val="a50021"/>
                </a:solidFill>
                <a:latin typeface="Book Antiqua"/>
              </a:rPr>
              <a:t> experience </a:t>
            </a:r>
            <a:r>
              <a:rPr b="1" lang="en-US" sz="2600" spc="-1" strike="noStrike">
                <a:solidFill>
                  <a:srgbClr val="000000"/>
                </a:solidFill>
                <a:latin typeface="Book Antiqua"/>
              </a:rPr>
              <a:t>and </a:t>
            </a:r>
            <a:r>
              <a:rPr b="1" lang="en-US" sz="2600" spc="-1" strike="noStrike">
                <a:solidFill>
                  <a:srgbClr val="a50021"/>
                </a:solidFill>
                <a:latin typeface="Book Antiqua"/>
              </a:rPr>
              <a:t>explore</a:t>
            </a:r>
            <a:r>
              <a:rPr b="1" lang="en-US" sz="2600" spc="-1" strike="noStrike">
                <a:solidFill>
                  <a:srgbClr val="000000"/>
                </a:solidFill>
                <a:latin typeface="Book Antiqua"/>
              </a:rPr>
              <a:t> key ideas?</a:t>
            </a:r>
            <a:endParaRPr b="1" i="1" lang="en-US" sz="2600" spc="-1" strike="noStrike">
              <a:solidFill>
                <a:srgbClr val="a50021"/>
              </a:solidFill>
              <a:latin typeface="Book Antiqua"/>
            </a:endParaRPr>
          </a:p>
          <a:p>
            <a:pPr marL="259560" indent="0">
              <a:spcBef>
                <a:spcPts val="649"/>
              </a:spcBef>
              <a:buNone/>
              <a:tabLst>
                <a:tab algn="l" pos="0"/>
                <a:tab algn="l" pos="750960"/>
                <a:tab algn="l" pos="1501920"/>
                <a:tab algn="l" pos="2252520"/>
                <a:tab algn="l" pos="3003480"/>
                <a:tab algn="l" pos="3754440"/>
                <a:tab algn="l" pos="4505400"/>
                <a:tab algn="l" pos="5256360"/>
                <a:tab algn="l" pos="6006960"/>
                <a:tab algn="l" pos="6757920"/>
                <a:tab algn="l" pos="7508880"/>
                <a:tab algn="l" pos="8259840"/>
                <a:tab algn="l" pos="9010800"/>
                <a:tab algn="l" pos="9761400"/>
                <a:tab algn="l" pos="1051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Book Antiqua"/>
              </a:rPr>
              <a:t>What will provide opportunities to </a:t>
            </a:r>
            <a:r>
              <a:rPr b="1" lang="en-US" sz="2600" spc="-1" strike="noStrike">
                <a:solidFill>
                  <a:srgbClr val="a50021"/>
                </a:solidFill>
                <a:latin typeface="Book Antiqua"/>
              </a:rPr>
              <a:t>rethink</a:t>
            </a:r>
            <a:r>
              <a:rPr b="1" lang="en-US" sz="2600" spc="-1" strike="noStrike">
                <a:solidFill>
                  <a:srgbClr val="000000"/>
                </a:solidFill>
                <a:latin typeface="Book Antiqua"/>
              </a:rPr>
              <a:t>, rehearse, refine and revise?</a:t>
            </a:r>
            <a:endParaRPr b="1" i="1" lang="en-US" sz="2600" spc="-1" strike="noStrike">
              <a:solidFill>
                <a:srgbClr val="a50021"/>
              </a:solidFill>
              <a:latin typeface="Book Antiqua"/>
            </a:endParaRPr>
          </a:p>
          <a:p>
            <a:pPr marL="259560" indent="0">
              <a:spcBef>
                <a:spcPts val="649"/>
              </a:spcBef>
              <a:buNone/>
              <a:tabLst>
                <a:tab algn="l" pos="0"/>
                <a:tab algn="l" pos="750960"/>
                <a:tab algn="l" pos="1501920"/>
                <a:tab algn="l" pos="2252520"/>
                <a:tab algn="l" pos="3003480"/>
                <a:tab algn="l" pos="3754440"/>
                <a:tab algn="l" pos="4505400"/>
                <a:tab algn="l" pos="5256360"/>
                <a:tab algn="l" pos="6006960"/>
                <a:tab algn="l" pos="6757920"/>
                <a:tab algn="l" pos="7508880"/>
                <a:tab algn="l" pos="8259840"/>
                <a:tab algn="l" pos="9010800"/>
                <a:tab algn="l" pos="9761400"/>
                <a:tab algn="l" pos="1051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Book Antiqua"/>
              </a:rPr>
              <a:t>How will students </a:t>
            </a:r>
            <a:r>
              <a:rPr b="1" lang="en-US" sz="2600" spc="-1" strike="noStrike">
                <a:solidFill>
                  <a:srgbClr val="a50021"/>
                </a:solidFill>
                <a:latin typeface="Book Antiqua"/>
              </a:rPr>
              <a:t>evaluate</a:t>
            </a:r>
            <a:r>
              <a:rPr b="1" lang="en-US" sz="2600" spc="-1" strike="noStrike">
                <a:solidFill>
                  <a:srgbClr val="000000"/>
                </a:solidFill>
                <a:latin typeface="Book Antiqua"/>
              </a:rPr>
              <a:t> their work?</a:t>
            </a:r>
            <a:endParaRPr b="1" i="1" lang="en-US" sz="2600" spc="-1" strike="noStrike">
              <a:solidFill>
                <a:srgbClr val="a50021"/>
              </a:solidFill>
              <a:latin typeface="Book Antiqua"/>
            </a:endParaRPr>
          </a:p>
          <a:p>
            <a:pPr marL="259560" indent="0">
              <a:spcBef>
                <a:spcPts val="649"/>
              </a:spcBef>
              <a:buNone/>
              <a:tabLst>
                <a:tab algn="l" pos="0"/>
                <a:tab algn="l" pos="750960"/>
                <a:tab algn="l" pos="1501920"/>
                <a:tab algn="l" pos="2252520"/>
                <a:tab algn="l" pos="3003480"/>
                <a:tab algn="l" pos="3754440"/>
                <a:tab algn="l" pos="4505400"/>
                <a:tab algn="l" pos="5256360"/>
                <a:tab algn="l" pos="6006960"/>
                <a:tab algn="l" pos="6757920"/>
                <a:tab algn="l" pos="7508880"/>
                <a:tab algn="l" pos="8259840"/>
                <a:tab algn="l" pos="9010800"/>
                <a:tab algn="l" pos="9761400"/>
                <a:tab algn="l" pos="1051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Book Antiqua"/>
              </a:rPr>
              <a:t>How will the work be </a:t>
            </a:r>
            <a:r>
              <a:rPr b="1" lang="en-US" sz="2600" spc="-1" strike="noStrike">
                <a:solidFill>
                  <a:srgbClr val="a50021"/>
                </a:solidFill>
                <a:latin typeface="Book Antiqua"/>
              </a:rPr>
              <a:t>tailored</a:t>
            </a:r>
            <a:r>
              <a:rPr b="1" lang="en-US" sz="2600" spc="-1" strike="noStrike">
                <a:solidFill>
                  <a:srgbClr val="000000"/>
                </a:solidFill>
                <a:latin typeface="Book Antiqua"/>
              </a:rPr>
              <a:t> to individual needs, interests, styles?</a:t>
            </a:r>
            <a:endParaRPr b="1" i="1" lang="en-US" sz="2600" spc="-1" strike="noStrike">
              <a:solidFill>
                <a:srgbClr val="a50021"/>
              </a:solidFill>
              <a:latin typeface="Book Antiqua"/>
            </a:endParaRPr>
          </a:p>
          <a:p>
            <a:pPr marL="259560" indent="0">
              <a:spcBef>
                <a:spcPts val="649"/>
              </a:spcBef>
              <a:buNone/>
              <a:tabLst>
                <a:tab algn="l" pos="0"/>
                <a:tab algn="l" pos="750960"/>
                <a:tab algn="l" pos="1501920"/>
                <a:tab algn="l" pos="2252520"/>
                <a:tab algn="l" pos="3003480"/>
                <a:tab algn="l" pos="3754440"/>
                <a:tab algn="l" pos="4505400"/>
                <a:tab algn="l" pos="5256360"/>
                <a:tab algn="l" pos="6006960"/>
                <a:tab algn="l" pos="6757920"/>
                <a:tab algn="l" pos="7508880"/>
                <a:tab algn="l" pos="8259840"/>
                <a:tab algn="l" pos="9010800"/>
                <a:tab algn="l" pos="9761400"/>
                <a:tab algn="l" pos="1051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Book Antiqua"/>
              </a:rPr>
              <a:t>How will the work be </a:t>
            </a:r>
            <a:r>
              <a:rPr b="1" lang="en-US" sz="2600" spc="-1" strike="noStrike">
                <a:solidFill>
                  <a:srgbClr val="a50021"/>
                </a:solidFill>
                <a:latin typeface="Book Antiqua"/>
              </a:rPr>
              <a:t>organized</a:t>
            </a:r>
            <a:r>
              <a:rPr b="1" lang="en-US" sz="2600" spc="-1" strike="noStrike">
                <a:solidFill>
                  <a:srgbClr val="000000"/>
                </a:solidFill>
                <a:latin typeface="Book Antiqua"/>
              </a:rPr>
              <a:t> for maximal engagement and effectiveness?</a:t>
            </a:r>
            <a:endParaRPr b="1" i="1" lang="en-US" sz="2600" spc="-1" strike="noStrike">
              <a:solidFill>
                <a:srgbClr val="a50021"/>
              </a:solidFill>
              <a:latin typeface="Book Antiqua"/>
            </a:endParaRPr>
          </a:p>
        </p:txBody>
      </p:sp>
      <p:sp>
        <p:nvSpPr>
          <p:cNvPr id="363" name=""/>
          <p:cNvSpPr/>
          <p:nvPr/>
        </p:nvSpPr>
        <p:spPr>
          <a:xfrm>
            <a:off x="382680" y="1447560"/>
            <a:ext cx="644040" cy="7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100" spc="-1" strike="noStrike">
                <a:solidFill>
                  <a:srgbClr val="0000ff"/>
                </a:solidFill>
                <a:latin typeface="Times New Roman"/>
              </a:rPr>
              <a:t>W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82320" y="2057040"/>
            <a:ext cx="586080" cy="7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100" spc="-1" strike="noStrike">
                <a:solidFill>
                  <a:srgbClr val="0000ff"/>
                </a:solidFill>
                <a:latin typeface="Times New Roman"/>
              </a:rPr>
              <a:t>H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82680" y="2666520"/>
            <a:ext cx="528120" cy="7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100" spc="-1" strike="noStrike">
                <a:solidFill>
                  <a:srgbClr val="0000ff"/>
                </a:solidFill>
                <a:latin typeface="Times New Roman"/>
              </a:rPr>
              <a:t>E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82680" y="4158720"/>
            <a:ext cx="528120" cy="7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100" spc="-1" strike="noStrike">
                <a:solidFill>
                  <a:srgbClr val="0000ff"/>
                </a:solidFill>
                <a:latin typeface="Times New Roman"/>
              </a:rPr>
              <a:t>E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82680" y="3352320"/>
            <a:ext cx="528120" cy="7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100" spc="-1" strike="noStrike">
                <a:solidFill>
                  <a:srgbClr val="0000ff"/>
                </a:solidFill>
                <a:latin typeface="Times New Roman"/>
              </a:rPr>
              <a:t>R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8153280" y="762120"/>
            <a:ext cx="457200" cy="457200"/>
          </a:xfrm>
          <a:prstGeom prst="ellipse">
            <a:avLst/>
          </a:prstGeom>
          <a:solidFill>
            <a:srgbClr val="114ff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Arial"/>
              </a:rPr>
              <a:t>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81960" y="4719240"/>
            <a:ext cx="499320" cy="7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100" spc="-1" strike="noStrike">
                <a:solidFill>
                  <a:srgbClr val="0000ff"/>
                </a:solidFill>
                <a:latin typeface="Times New Roman"/>
              </a:rPr>
              <a:t>T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82320" y="5333760"/>
            <a:ext cx="557280" cy="7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100" spc="-1" strike="noStrike">
                <a:solidFill>
                  <a:srgbClr val="0000ff"/>
                </a:solidFill>
                <a:latin typeface="Times New Roman"/>
              </a:rPr>
              <a:t>O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fill="hold">
                      <p:stCondLst>
                        <p:cond delay="0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2500"/>
                            </p:stCondLst>
                            <p:childTnLst>
                              <p:par>
                                <p:cTn id="585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fill="hold">
                            <p:stCondLst>
                              <p:cond delay="4000"/>
                            </p:stCondLst>
                            <p:childTnLst>
                              <p:par>
                                <p:cTn id="59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2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fill="hold">
                            <p:stCondLst>
                              <p:cond delay="5500"/>
                            </p:stCondLst>
                            <p:childTnLst>
                              <p:par>
                                <p:cTn id="59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6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7000"/>
                            </p:stCondLst>
                            <p:childTnLst>
                              <p:par>
                                <p:cTn id="59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0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fill="hold">
                            <p:stCondLst>
                              <p:cond delay="8500"/>
                            </p:stCondLst>
                            <p:childTnLst>
                              <p:par>
                                <p:cTn id="60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4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10000"/>
                            </p:stCondLst>
                            <p:childTnLst>
                              <p:par>
                                <p:cTn id="606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8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61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2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fill="hold">
                            <p:stCondLst>
                              <p:cond delay="13000"/>
                            </p:stCondLst>
                            <p:childTnLst>
                              <p:par>
                                <p:cTn id="61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6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33520" y="218880"/>
            <a:ext cx="7758000" cy="115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0ff"/>
                </a:solidFill>
                <a:latin typeface="Arial"/>
              </a:rPr>
              <a:t>Note that some fields require you to enter one idea at a time</a:t>
            </a:r>
            <a:endParaRPr b="0" lang="en-US" sz="4400" spc="-1" strike="noStrike">
              <a:solidFill>
                <a:srgbClr val="4040ff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960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a50021"/>
                </a:solidFill>
                <a:latin typeface="Book Antiqua"/>
              </a:rPr>
              <a:t>One idea per box allows for more powerful searching, selecting, and attaching to units when you browse</a:t>
            </a:r>
            <a:endParaRPr b="1" i="1" lang="en-US" sz="3600" spc="-1" strike="noStrike">
              <a:solidFill>
                <a:srgbClr val="a50021"/>
              </a:solidFill>
              <a:latin typeface="Book Antiqua"/>
            </a:endParaRPr>
          </a:p>
          <a:p>
            <a:pPr lvl="1" marL="373680" indent="-26856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Essential questions</a:t>
            </a:r>
            <a:endParaRPr b="1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373680" indent="-26856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Enduring understandings</a:t>
            </a:r>
            <a:endParaRPr b="1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373680" indent="-26856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Tasks of complex performance</a:t>
            </a:r>
            <a:endParaRPr b="1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373680" indent="-26856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Rubrics</a:t>
            </a:r>
            <a:endParaRPr b="1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a50021"/>
                </a:solidFill>
                <a:latin typeface="Book Antiqua"/>
              </a:rPr>
              <a:t>Also: makes expert reviewer assignment of “blue ribbons” more precise</a:t>
            </a:r>
            <a:endParaRPr b="1" i="1" lang="en-US" sz="3600" spc="-1" strike="noStrike">
              <a:solidFill>
                <a:srgbClr val="a50021"/>
              </a:solidFill>
              <a:latin typeface="Book Antiqua"/>
            </a:endParaRPr>
          </a:p>
        </p:txBody>
      </p:sp>
      <p:sp>
        <p:nvSpPr>
          <p:cNvPr id="373" name=""/>
          <p:cNvSpPr/>
          <p:nvPr/>
        </p:nvSpPr>
        <p:spPr>
          <a:xfrm>
            <a:off x="8381880" y="4191120"/>
            <a:ext cx="457200" cy="457200"/>
          </a:xfrm>
          <a:prstGeom prst="ellipse">
            <a:avLst/>
          </a:prstGeom>
          <a:solidFill>
            <a:srgbClr val="114ff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8381880" y="4800600"/>
            <a:ext cx="457200" cy="457200"/>
          </a:xfrm>
          <a:prstGeom prst="ellipse">
            <a:avLst/>
          </a:prstGeom>
          <a:solidFill>
            <a:srgbClr val="114ff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8381880" y="3581280"/>
            <a:ext cx="457200" cy="457200"/>
          </a:xfrm>
          <a:prstGeom prst="ellipse">
            <a:avLst/>
          </a:prstGeom>
          <a:solidFill>
            <a:srgbClr val="114ff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Arial"/>
              </a:rPr>
              <a:t>U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8381880" y="2971800"/>
            <a:ext cx="457200" cy="457200"/>
          </a:xfrm>
          <a:prstGeom prst="ellipse">
            <a:avLst/>
          </a:prstGeom>
          <a:solidFill>
            <a:srgbClr val="114ff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Arial"/>
              </a:rPr>
              <a:t>Q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4942800" y="1665720"/>
            <a:ext cx="4103280" cy="4525200"/>
            <a:chOff x="4942800" y="1665720"/>
            <a:chExt cx="4103280" cy="4525200"/>
          </a:xfrm>
        </p:grpSpPr>
        <p:sp>
          <p:nvSpPr>
            <p:cNvPr id="64" name=""/>
            <p:cNvSpPr/>
            <p:nvPr/>
          </p:nvSpPr>
          <p:spPr>
            <a:xfrm rot="266400">
              <a:off x="5094360" y="2034000"/>
              <a:ext cx="3200400" cy="4038840"/>
            </a:xfrm>
            <a:prstGeom prst="rect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266400">
              <a:off x="5176080" y="1964160"/>
              <a:ext cx="3200400" cy="4038480"/>
            </a:xfrm>
            <a:prstGeom prst="rect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rot="266400">
              <a:off x="5334120" y="1900080"/>
              <a:ext cx="3200400" cy="4038480"/>
            </a:xfrm>
            <a:prstGeom prst="rect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rot="266400">
              <a:off x="5568120" y="1838880"/>
              <a:ext cx="3124080" cy="4038840"/>
            </a:xfrm>
            <a:prstGeom prst="rect">
              <a:avLst/>
            </a:prstGeom>
            <a:solidFill>
              <a:srgbClr val="eaeae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rot="266400">
              <a:off x="5801760" y="1779120"/>
              <a:ext cx="3092400" cy="40384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rot="266400">
              <a:off x="6101640" y="2463120"/>
              <a:ext cx="2514600" cy="838080"/>
            </a:xfrm>
            <a:prstGeom prst="rect">
              <a:avLst/>
            </a:prstGeom>
            <a:solidFill>
              <a:srgbClr val="eaec5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rot="266400">
              <a:off x="5912640" y="4893840"/>
              <a:ext cx="2514600" cy="838080"/>
            </a:xfrm>
            <a:prstGeom prst="rect">
              <a:avLst/>
            </a:prstGeom>
            <a:solidFill>
              <a:srgbClr val="fde3b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rot="266400">
              <a:off x="6006960" y="3678480"/>
              <a:ext cx="2514600" cy="83844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 txBox="1"/>
            <p:nvPr/>
          </p:nvSpPr>
          <p:spPr>
            <a:xfrm rot="266400">
              <a:off x="6858360" y="1858320"/>
              <a:ext cx="1206360" cy="21600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1" strike="noStrike">
                  <a:ln w="0">
                    <a:noFill/>
                  </a:ln>
                  <a:solidFill>
                    <a:srgbClr val="336699"/>
                  </a:solidFill>
                  <a:effectLst>
                    <a:outerShdw dist="40186" dir="1096358" blurRad="0" rotWithShape="0">
                      <a:srgbClr val="c0c0c0"/>
                    </a:outerShdw>
                  </a:effectLst>
                  <a:latin typeface="Times New Roman"/>
                </a:rPr>
                <a:t>Unit Template</a:t>
              </a:r>
              <a:endParaRPr b="1" lang="en-US" sz="16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rot="266400">
              <a:off x="6224400" y="2185200"/>
              <a:ext cx="2133720" cy="17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ektoMM_503 BD 488 NO"/>
                </a:rPr>
                <a:t>Overarching understanding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rot="266400">
              <a:off x="5802480" y="4651920"/>
              <a:ext cx="2286000" cy="17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ektoMM_503 BD 488 NO"/>
                </a:rPr>
                <a:t>Knowledge and skill to be acquire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rot="266400">
              <a:off x="6125760" y="3429000"/>
              <a:ext cx="1676520" cy="17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ektoMM_503 BD 488 NO"/>
                </a:rPr>
                <a:t>Essential </a:t>
              </a:r>
              <a:r>
                <a:rPr b="0" lang="en-US" sz="900" spc="-1" strike="noStrike">
                  <a:solidFill>
                    <a:srgbClr val="000000"/>
                  </a:solidFill>
                  <a:latin typeface="TektoMMObl_503 BD 850 EX"/>
                </a:rPr>
                <a:t> </a:t>
              </a:r>
              <a:r>
                <a:rPr b="0" lang="en-US" sz="900" spc="-1" strike="noStrike">
                  <a:solidFill>
                    <a:srgbClr val="000000"/>
                  </a:solidFill>
                  <a:latin typeface="TektoMM_503 BD 488 NO"/>
                </a:rPr>
                <a:t>Question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4560" y="295200"/>
            <a:ext cx="8381880" cy="115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0ff"/>
                </a:solidFill>
                <a:latin typeface="Arial"/>
              </a:rPr>
              <a:t>Understanding by Design Template: the basis of Exchange</a:t>
            </a:r>
            <a:endParaRPr b="0" lang="en-US" sz="4400" spc="-1" strike="noStrike">
              <a:solidFill>
                <a:srgbClr val="4040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5105520" cy="419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lvl="1" marL="673920" indent="-262440">
              <a:spcBef>
                <a:spcPts val="901"/>
              </a:spcBef>
              <a:buClr>
                <a:srgbClr val="0000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Book Antiqua"/>
              </a:rPr>
              <a:t>The ubd template embodies the 3 stages of “Backward Design”</a:t>
            </a:r>
            <a:endParaRPr b="1" lang="en-US" sz="3600" spc="-1" strike="noStrike">
              <a:solidFill>
                <a:srgbClr val="000000"/>
              </a:solidFill>
              <a:latin typeface="Book Antiqua"/>
            </a:endParaRPr>
          </a:p>
          <a:p>
            <a:pPr lvl="1" marL="673920" indent="-262440">
              <a:spcBef>
                <a:spcPts val="901"/>
              </a:spcBef>
              <a:buClr>
                <a:srgbClr val="0000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Book Antiqua"/>
              </a:rPr>
              <a:t>The template provides an easy mechanism for exchange of ideas</a:t>
            </a:r>
            <a:endParaRPr b="1" lang="en-US" sz="36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transition>
    <p:dissolv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23" presetSubtype="28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33520" y="218880"/>
            <a:ext cx="7758000" cy="115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0ff"/>
                </a:solidFill>
                <a:latin typeface="Arial"/>
              </a:rPr>
              <a:t>Help in the Exchange about all template design elements</a:t>
            </a:r>
            <a:endParaRPr b="0" lang="en-US" sz="4400" spc="-1" strike="noStrike">
              <a:solidFill>
                <a:srgbClr val="4040ff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547200" y="1447920"/>
            <a:ext cx="760572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a50021"/>
                </a:solidFill>
                <a:latin typeface="Book Antiqua"/>
              </a:rPr>
              <a:t>Get to know the icons!</a:t>
            </a:r>
            <a:endParaRPr b="1" i="1" lang="en-US" sz="3600" spc="-1" strike="noStrike">
              <a:solidFill>
                <a:srgbClr val="a50021"/>
              </a:solidFill>
              <a:latin typeface="Book Antiqua"/>
            </a:endParaRPr>
          </a:p>
          <a:p>
            <a:pPr lvl="1" marL="406440" indent="-291960">
              <a:spcBef>
                <a:spcPts val="700"/>
              </a:spcBef>
              <a:buClr>
                <a:srgbClr val="0000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A summary of each field</a:t>
            </a:r>
            <a:endParaRPr b="1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406440" indent="-291960">
              <a:spcBef>
                <a:spcPts val="700"/>
              </a:spcBef>
              <a:buClr>
                <a:srgbClr val="0000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Examples for each field</a:t>
            </a:r>
            <a:endParaRPr b="1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406440" indent="-291960">
              <a:spcBef>
                <a:spcPts val="700"/>
              </a:spcBef>
              <a:buClr>
                <a:srgbClr val="0000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A self-test of your understanding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for that field</a:t>
            </a:r>
            <a:endParaRPr b="1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406440" indent="-291960">
              <a:spcBef>
                <a:spcPts val="700"/>
              </a:spcBef>
              <a:buClr>
                <a:srgbClr val="0000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FAQ’s and Glossary</a:t>
            </a:r>
            <a:endParaRPr b="1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406440" indent="-291960">
              <a:spcBef>
                <a:spcPts val="700"/>
              </a:spcBef>
              <a:buClr>
                <a:srgbClr val="0000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A special unit in which each field is explained: click the icon for UBD TEMPLATE</a:t>
            </a:r>
            <a:endParaRPr b="1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406440" indent="-291960">
              <a:spcBef>
                <a:spcPts val="700"/>
              </a:spcBef>
              <a:buClr>
                <a:srgbClr val="0000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Web links to resources for that field</a:t>
            </a:r>
            <a:endParaRPr b="1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79" name=""/>
          <p:cNvSpPr/>
          <p:nvPr/>
        </p:nvSpPr>
        <p:spPr>
          <a:xfrm>
            <a:off x="7848720" y="2057400"/>
            <a:ext cx="457200" cy="4572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Arial"/>
              </a:rPr>
              <a:t>Q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7848720" y="2666880"/>
            <a:ext cx="533160" cy="533520"/>
          </a:xfrm>
          <a:prstGeom prst="star5">
            <a:avLst/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7848720" y="4038480"/>
            <a:ext cx="457200" cy="45720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7850160" y="3123720"/>
            <a:ext cx="515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7467480" y="4800600"/>
            <a:ext cx="1371600" cy="609480"/>
          </a:xfrm>
          <a:prstGeom prst="ellipse">
            <a:avLst/>
          </a:prstGeom>
          <a:solidFill>
            <a:srgbClr val="114ff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Ubd templ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7696080" y="5715000"/>
            <a:ext cx="838440" cy="762120"/>
          </a:xfrm>
          <a:prstGeom prst="sun">
            <a:avLst>
              <a:gd name="adj" fmla="val 25000"/>
            </a:avLst>
          </a:prstGeom>
          <a:solidFill>
            <a:srgbClr val="00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58000" cy="115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0ff"/>
                </a:solidFill>
                <a:latin typeface="Arial"/>
              </a:rPr>
              <a:t>for further information...</a:t>
            </a:r>
            <a:endParaRPr b="0" lang="en-US" sz="4400" spc="-1" strike="noStrike">
              <a:solidFill>
                <a:srgbClr val="4040ff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547560" y="1523880"/>
            <a:ext cx="7986960" cy="4724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a50021"/>
                </a:solidFill>
                <a:latin typeface="Book Antiqua"/>
              </a:rPr>
              <a:t>Contact us: </a:t>
            </a:r>
            <a:endParaRPr b="1" i="1" lang="en-US" sz="3600" spc="-1" strike="noStrike">
              <a:solidFill>
                <a:srgbClr val="a50021"/>
              </a:solidFill>
              <a:latin typeface="Book Antiqua"/>
            </a:endParaRPr>
          </a:p>
          <a:p>
            <a:pPr lvl="1" marL="749160" indent="-291960">
              <a:spcBef>
                <a:spcPts val="901"/>
              </a:spcBef>
              <a:buClr>
                <a:srgbClr val="0000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Book Antiqua"/>
              </a:rPr>
              <a:t>Grant Wiggins, co-author: grant@ubdexchange.org</a:t>
            </a:r>
            <a:endParaRPr b="1" lang="en-US" sz="3600" spc="-1" strike="noStrike">
              <a:solidFill>
                <a:srgbClr val="000000"/>
              </a:solidFill>
              <a:latin typeface="Book Antiqua"/>
            </a:endParaRPr>
          </a:p>
          <a:p>
            <a:pPr lvl="1" marL="749160" indent="-291960">
              <a:spcBef>
                <a:spcPts val="901"/>
              </a:spcBef>
              <a:buClr>
                <a:srgbClr val="0000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Book Antiqua"/>
              </a:rPr>
              <a:t>Jay McTighe, co-author: jmctigh@aol.com </a:t>
            </a:r>
            <a:endParaRPr b="1" lang="en-US" sz="3600" spc="-1" strike="noStrike">
              <a:solidFill>
                <a:srgbClr val="000000"/>
              </a:solidFill>
              <a:latin typeface="Book Antiqua"/>
            </a:endParaRPr>
          </a:p>
          <a:p>
            <a:pPr lvl="1" marL="749160" indent="-291960">
              <a:spcBef>
                <a:spcPts val="901"/>
              </a:spcBef>
              <a:buClr>
                <a:srgbClr val="0000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Book Antiqua"/>
              </a:rPr>
              <a:t>Steve Petti, webmaster: steve@newimagemedia.com</a:t>
            </a:r>
            <a:endParaRPr b="1" lang="en-US" sz="36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9067680" cy="88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0ff"/>
                </a:solidFill>
                <a:latin typeface="Arial"/>
              </a:rPr>
              <a:t>The “big ideas” of each stage:</a:t>
            </a:r>
            <a:endParaRPr b="0" lang="en-US" sz="4400" spc="-1" strike="noStrike">
              <a:solidFill>
                <a:srgbClr val="4040ff"/>
              </a:solidFill>
              <a:latin typeface="Arial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4648320" y="1066680"/>
            <a:ext cx="3813120" cy="5410080"/>
            <a:chOff x="4648320" y="1066680"/>
            <a:chExt cx="3813120" cy="5410080"/>
          </a:xfrm>
        </p:grpSpPr>
        <p:sp>
          <p:nvSpPr>
            <p:cNvPr id="80" name=""/>
            <p:cNvSpPr/>
            <p:nvPr/>
          </p:nvSpPr>
          <p:spPr>
            <a:xfrm>
              <a:off x="6703920" y="1814400"/>
              <a:ext cx="1649520" cy="1316160"/>
            </a:xfrm>
            <a:prstGeom prst="roundRect">
              <a:avLst>
                <a:gd name="adj" fmla="val 1007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865760" y="1066680"/>
              <a:ext cx="3595680" cy="5410080"/>
            </a:xfrm>
            <a:prstGeom prst="rect">
              <a:avLst/>
            </a:prstGeom>
            <a:noFill/>
            <a:ln w="316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879800" y="3208320"/>
              <a:ext cx="3581640" cy="2127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068880" y="3252600"/>
              <a:ext cx="1268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Times New Roman"/>
                </a:rPr>
                <a:t>Assessment Evidenc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879800" y="4917960"/>
              <a:ext cx="3581640" cy="2127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147000" y="4952880"/>
              <a:ext cx="588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Times New Roman"/>
                </a:rPr>
                <a:t>Learning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693120" y="4952880"/>
              <a:ext cx="564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Times New Roman"/>
                </a:rPr>
                <a:t>Activitie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895640" y="1515960"/>
              <a:ext cx="3559320" cy="2127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210280" y="1542960"/>
              <a:ext cx="2961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Times New Roman"/>
                </a:rPr>
                <a:t>    </a:t>
              </a:r>
              <a:r>
                <a:rPr b="1" lang="en-US" sz="1100" spc="-1" strike="noStrike">
                  <a:solidFill>
                    <a:srgbClr val="ffffff"/>
                  </a:solidFill>
                  <a:latin typeface="Times New Roman"/>
                </a:rPr>
                <a:t>Understandings                    Essential Question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735440" y="3295440"/>
              <a:ext cx="1015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V="1">
              <a:off x="4727520" y="4760640"/>
              <a:ext cx="1440" cy="6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V="1">
              <a:off x="4727520" y="4657680"/>
              <a:ext cx="144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V="1">
              <a:off x="4727520" y="4556160"/>
              <a:ext cx="1440" cy="6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V="1">
              <a:off x="4727520" y="4444920"/>
              <a:ext cx="144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V="1">
              <a:off x="4727520" y="4343400"/>
              <a:ext cx="1440" cy="6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V="1">
              <a:off x="4727520" y="4240080"/>
              <a:ext cx="144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flipV="1">
              <a:off x="4727520" y="4130640"/>
              <a:ext cx="1440" cy="6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V="1">
              <a:off x="4727520" y="4026960"/>
              <a:ext cx="1440" cy="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 flipV="1">
              <a:off x="4727520" y="3925800"/>
              <a:ext cx="1440" cy="6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flipV="1">
              <a:off x="4727520" y="3814200"/>
              <a:ext cx="1440" cy="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flipV="1">
              <a:off x="4727520" y="3713040"/>
              <a:ext cx="1440" cy="6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flipV="1">
              <a:off x="4727520" y="3609360"/>
              <a:ext cx="1440" cy="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 flipV="1">
              <a:off x="4727520" y="3499920"/>
              <a:ext cx="1440" cy="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flipV="1">
              <a:off x="4727520" y="3396600"/>
              <a:ext cx="1440" cy="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flipV="1">
              <a:off x="4727520" y="3295080"/>
              <a:ext cx="1440" cy="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727520" y="4838760"/>
              <a:ext cx="1015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735440" y="5027400"/>
              <a:ext cx="936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727520" y="6389640"/>
              <a:ext cx="1015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656240" y="3673440"/>
              <a:ext cx="144360" cy="803160"/>
            </a:xfrm>
            <a:custGeom>
              <a:avLst/>
              <a:gdLst>
                <a:gd name="textAreaLeft" fmla="*/ 19440 w 144360"/>
                <a:gd name="textAreaRight" fmla="*/ 124920 w 144360"/>
                <a:gd name="textAreaTop" fmla="*/ 19440 h 803160"/>
                <a:gd name="textAreaBottom" fmla="*/ 783720 h 803160"/>
              </a:gdLst>
              <a:ahLst/>
              <a:rect l="textAreaLeft" t="textAreaTop" r="textAreaRight" b="textAreaBottom"/>
              <a:pathLst>
                <a:path w="21600" h="119928">
                  <a:moveTo>
                    <a:pt x="9969" y="0"/>
                  </a:moveTo>
                  <a:arcTo wR="9969" hR="9969" stAng="16200000" swAng="-5400000"/>
                  <a:lnTo>
                    <a:pt x="0" y="109959"/>
                  </a:lnTo>
                  <a:arcTo wR="9969" hR="9969" stAng="10800000" swAng="-5400000"/>
                  <a:lnTo>
                    <a:pt x="11631" y="119928"/>
                  </a:lnTo>
                  <a:arcTo wR="9969" hR="9969" stAng="5400000" swAng="-5400000"/>
                  <a:lnTo>
                    <a:pt x="21600" y="9969"/>
                  </a:lnTo>
                  <a:arcTo wR="9969" hR="9969" stAng="0" swAng="-5400000"/>
                  <a:close/>
                </a:path>
              </a:pathLst>
            </a:custGeom>
            <a:solidFill>
              <a:srgbClr val="f0ccda"/>
            </a:solidFill>
            <a:ln w="9360">
              <a:solidFill>
                <a:srgbClr val="f0cc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727520" y="3700440"/>
              <a:ext cx="493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"/>
                </a:rPr>
                <a:t>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25360" y="3795480"/>
              <a:ext cx="37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722480" y="3889080"/>
              <a:ext cx="58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24280" y="3984480"/>
              <a:ext cx="633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"/>
                </a:rPr>
                <a:t>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726080" y="4078080"/>
              <a:ext cx="58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726080" y="4290840"/>
              <a:ext cx="58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flipV="1">
              <a:off x="4721040" y="6311880"/>
              <a:ext cx="1800" cy="6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flipV="1">
              <a:off x="4721040" y="6208200"/>
              <a:ext cx="1800" cy="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flipV="1">
              <a:off x="4721040" y="6099120"/>
              <a:ext cx="180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4721040" y="5995440"/>
              <a:ext cx="1800" cy="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flipV="1">
              <a:off x="4721040" y="5886360"/>
              <a:ext cx="180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>
              <a:off x="4721040" y="5774760"/>
              <a:ext cx="1800" cy="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>
              <a:off x="4721040" y="5673600"/>
              <a:ext cx="180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>
              <a:off x="4721040" y="5564160"/>
              <a:ext cx="1800" cy="6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flipV="1">
              <a:off x="4721040" y="5460480"/>
              <a:ext cx="1800" cy="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>
              <a:off x="4721040" y="5351400"/>
              <a:ext cx="6480" cy="77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 flipV="1">
              <a:off x="4727520" y="5239800"/>
              <a:ext cx="1440" cy="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 flipV="1">
              <a:off x="4727520" y="5138640"/>
              <a:ext cx="1440" cy="6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flipV="1">
              <a:off x="4727520" y="5027040"/>
              <a:ext cx="1440" cy="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656240" y="5311800"/>
              <a:ext cx="144360" cy="803160"/>
            </a:xfrm>
            <a:custGeom>
              <a:avLst/>
              <a:gdLst>
                <a:gd name="textAreaLeft" fmla="*/ 19440 w 144360"/>
                <a:gd name="textAreaRight" fmla="*/ 124920 w 144360"/>
                <a:gd name="textAreaTop" fmla="*/ 19440 h 803160"/>
                <a:gd name="textAreaBottom" fmla="*/ 783720 h 803160"/>
              </a:gdLst>
              <a:ahLst/>
              <a:rect l="textAreaLeft" t="textAreaTop" r="textAreaRight" b="textAreaBottom"/>
              <a:pathLst>
                <a:path w="21600" h="119928">
                  <a:moveTo>
                    <a:pt x="9969" y="0"/>
                  </a:moveTo>
                  <a:arcTo wR="9969" hR="9969" stAng="16200000" swAng="-5400000"/>
                  <a:lnTo>
                    <a:pt x="0" y="109959"/>
                  </a:lnTo>
                  <a:arcTo wR="9969" hR="9969" stAng="10800000" swAng="-5400000"/>
                  <a:lnTo>
                    <a:pt x="11631" y="119928"/>
                  </a:lnTo>
                  <a:arcTo wR="9969" hR="9969" stAng="5400000" swAng="-5400000"/>
                  <a:lnTo>
                    <a:pt x="21600" y="9969"/>
                  </a:lnTo>
                  <a:arcTo wR="9969" hR="9969" stAng="0" swAng="-5400000"/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727520" y="5338800"/>
              <a:ext cx="493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"/>
                </a:rPr>
                <a:t>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725360" y="5433840"/>
              <a:ext cx="37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722480" y="5527440"/>
              <a:ext cx="58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724280" y="5622840"/>
              <a:ext cx="633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"/>
                </a:rPr>
                <a:t>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726080" y="5716440"/>
              <a:ext cx="58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726080" y="5929200"/>
              <a:ext cx="58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"/>
                </a:rPr>
                <a:t>3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971240" y="1125360"/>
              <a:ext cx="7275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00"/>
                  </a:solidFill>
                  <a:latin typeface="Times New Roman"/>
                </a:rPr>
                <a:t>Standard(s):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727520" y="1593720"/>
              <a:ext cx="1015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flipV="1">
              <a:off x="4721040" y="3066480"/>
              <a:ext cx="1800" cy="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4721040" y="2965320"/>
              <a:ext cx="1800" cy="6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 flipV="1">
              <a:off x="4721040" y="2853720"/>
              <a:ext cx="1800" cy="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flipV="1">
              <a:off x="4721040" y="2752560"/>
              <a:ext cx="1800" cy="6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flipV="1">
              <a:off x="4721040" y="2648880"/>
              <a:ext cx="1800" cy="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 flipV="1">
              <a:off x="4721040" y="2539800"/>
              <a:ext cx="1800" cy="6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V="1">
              <a:off x="4721040" y="2436840"/>
              <a:ext cx="180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V="1">
              <a:off x="4721040" y="2334960"/>
              <a:ext cx="1800" cy="6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flipV="1">
              <a:off x="4721040" y="2224080"/>
              <a:ext cx="180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flipV="1">
              <a:off x="4721040" y="2122200"/>
              <a:ext cx="1800" cy="6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V="1">
              <a:off x="4721040" y="2019240"/>
              <a:ext cx="180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V="1">
              <a:off x="4721040" y="1909800"/>
              <a:ext cx="1800" cy="6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flipV="1">
              <a:off x="4721040" y="1806480"/>
              <a:ext cx="180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flipV="1">
              <a:off x="4721040" y="1704960"/>
              <a:ext cx="1800" cy="6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flipV="1">
              <a:off x="4721040" y="1593720"/>
              <a:ext cx="180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721040" y="3138480"/>
              <a:ext cx="1018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648320" y="1979640"/>
              <a:ext cx="145800" cy="803160"/>
            </a:xfrm>
            <a:custGeom>
              <a:avLst/>
              <a:gdLst>
                <a:gd name="textAreaLeft" fmla="*/ 19440 w 145800"/>
                <a:gd name="textAreaRight" fmla="*/ 126360 w 145800"/>
                <a:gd name="textAreaTop" fmla="*/ 19440 h 803160"/>
                <a:gd name="textAreaBottom" fmla="*/ 783720 h 803160"/>
              </a:gdLst>
              <a:ahLst/>
              <a:rect l="textAreaLeft" t="textAreaTop" r="textAreaRight" b="textAreaBottom"/>
              <a:pathLst>
                <a:path w="21600" h="118747">
                  <a:moveTo>
                    <a:pt x="9861" y="0"/>
                  </a:moveTo>
                  <a:arcTo wR="9861" hR="9861" stAng="16200000" swAng="-5400000"/>
                  <a:lnTo>
                    <a:pt x="0" y="108886"/>
                  </a:lnTo>
                  <a:arcTo wR="9861" hR="9861" stAng="10800000" swAng="-5400000"/>
                  <a:lnTo>
                    <a:pt x="11739" y="118747"/>
                  </a:lnTo>
                  <a:arcTo wR="9861" hR="9861" stAng="5400000" swAng="-5400000"/>
                  <a:lnTo>
                    <a:pt x="21600" y="9861"/>
                  </a:lnTo>
                  <a:arcTo wR="9861" hR="9861" stAng="0" swAng="-5400000"/>
                  <a:close/>
                </a:path>
              </a:pathLst>
            </a:custGeom>
            <a:solidFill>
              <a:srgbClr val="cce4de"/>
            </a:solidFill>
            <a:ln w="9360">
              <a:solidFill>
                <a:srgbClr val="cce4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721400" y="2008080"/>
              <a:ext cx="493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"/>
                </a:rPr>
                <a:t>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718880" y="2101680"/>
              <a:ext cx="37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716360" y="2197080"/>
              <a:ext cx="58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717800" y="2290680"/>
              <a:ext cx="633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"/>
                </a:rPr>
                <a:t>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719600" y="2385720"/>
              <a:ext cx="58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719600" y="2598480"/>
              <a:ext cx="58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082480" y="3597120"/>
              <a:ext cx="596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Performance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670000" y="359712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725440" y="3597120"/>
              <a:ext cx="288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ask(s):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835320" y="3597120"/>
              <a:ext cx="720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Other Evidence: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967280" y="1822320"/>
              <a:ext cx="1649520" cy="1316160"/>
            </a:xfrm>
            <a:prstGeom prst="roundRect">
              <a:avLst>
                <a:gd name="adj" fmla="val 1007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703920" y="3516120"/>
              <a:ext cx="1641600" cy="1322640"/>
            </a:xfrm>
            <a:prstGeom prst="roundRect">
              <a:avLst>
                <a:gd name="adj" fmla="val 10023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960800" y="3524040"/>
              <a:ext cx="1649520" cy="1322640"/>
            </a:xfrm>
            <a:prstGeom prst="roundRect">
              <a:avLst>
                <a:gd name="adj" fmla="val 10023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380880" y="1219320"/>
            <a:ext cx="4266720" cy="1447200"/>
            <a:chOff x="380880" y="1219320"/>
            <a:chExt cx="4266720" cy="1447200"/>
          </a:xfrm>
        </p:grpSpPr>
        <p:sp>
          <p:nvSpPr>
            <p:cNvPr id="168" name=""/>
            <p:cNvSpPr/>
            <p:nvPr/>
          </p:nvSpPr>
          <p:spPr>
            <a:xfrm>
              <a:off x="380880" y="1219320"/>
              <a:ext cx="4100040" cy="144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 fontScale="76000"/>
            </a:bodyPr>
            <a:p>
              <a:pPr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Book Antiqua"/>
                </a:rPr>
                <a:t>Unpack the content       standards and ‘content’,</a:t>
              </a:r>
              <a:r>
                <a:rPr b="1" lang="en-US" sz="3200" spc="-1" strike="noStrike">
                  <a:solidFill>
                    <a:srgbClr val="0000ff"/>
                  </a:solidFill>
                  <a:latin typeface="Book Antiqua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Book Antiqua"/>
                </a:rPr>
                <a:t>focus on big idea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flipV="1">
              <a:off x="3225600" y="2252520"/>
              <a:ext cx="1422000" cy="2070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152280" y="3276720"/>
            <a:ext cx="5181480" cy="1218600"/>
            <a:chOff x="152280" y="3276720"/>
            <a:chExt cx="5181480" cy="1218600"/>
          </a:xfrm>
        </p:grpSpPr>
        <p:sp>
          <p:nvSpPr>
            <p:cNvPr id="171" name=""/>
            <p:cNvSpPr/>
            <p:nvPr/>
          </p:nvSpPr>
          <p:spPr>
            <a:xfrm>
              <a:off x="152280" y="3276720"/>
              <a:ext cx="4830120" cy="12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 fontScale="76000"/>
            </a:bodyPr>
            <a:p>
              <a:pPr>
                <a:lnSpc>
                  <a:spcPct val="9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ff"/>
                  </a:solidFill>
                  <a:latin typeface="Book Antiqua"/>
                </a:rPr>
                <a:t> </a:t>
              </a:r>
              <a:r>
                <a:rPr b="1" lang="en-US" sz="3600" spc="-1" strike="noStrike">
                  <a:solidFill>
                    <a:srgbClr val="0000ff"/>
                  </a:solidFill>
                  <a:latin typeface="Book Antiqua"/>
                </a:rPr>
                <a:t>Analyze multiple sources of evidence, aligned with Stage 1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4367520" y="3711960"/>
              <a:ext cx="966240" cy="1738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76320" y="5105520"/>
            <a:ext cx="5162040" cy="1066680"/>
            <a:chOff x="76320" y="5105520"/>
            <a:chExt cx="5162040" cy="1066680"/>
          </a:xfrm>
        </p:grpSpPr>
        <p:sp>
          <p:nvSpPr>
            <p:cNvPr id="174" name=""/>
            <p:cNvSpPr/>
            <p:nvPr/>
          </p:nvSpPr>
          <p:spPr>
            <a:xfrm>
              <a:off x="76320" y="5105520"/>
              <a:ext cx="447516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 fontScale="69000"/>
            </a:bodyPr>
            <a:p>
              <a:pPr>
                <a:lnSpc>
                  <a:spcPct val="9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3300"/>
                  </a:solidFill>
                  <a:latin typeface="Book Antiqua"/>
                </a:rPr>
                <a:t>Derive the implied learning from Stages 1 &amp; 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>
              <a:off x="4343040" y="5333760"/>
              <a:ext cx="895320" cy="4568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4876920" y="1295280"/>
            <a:ext cx="358128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813560" y="2331360"/>
            <a:ext cx="377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What are the big idea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955400" y="4037760"/>
            <a:ext cx="34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What’s the evidenc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835880" y="5714280"/>
            <a:ext cx="363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How will we get ther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77777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8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77777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6" dur="1" fill="hold"/>
                                  <p:tgtEl>
                                    <p:spTgt spid="17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77777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18880"/>
            <a:ext cx="8610480" cy="115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0ff"/>
                </a:solidFill>
                <a:latin typeface="Arial"/>
              </a:rPr>
              <a:t>Each element is found behind a menu tab when designing units</a:t>
            </a:r>
            <a:endParaRPr b="0" lang="en-US" sz="4400" spc="-1" strike="noStrike">
              <a:solidFill>
                <a:srgbClr val="4040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781680" y="2743200"/>
            <a:ext cx="457200" cy="457200"/>
          </a:xfrm>
          <a:prstGeom prst="ellipse">
            <a:avLst/>
          </a:prstGeom>
          <a:solidFill>
            <a:srgbClr val="114ff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Arial"/>
              </a:rPr>
              <a:t>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86200" y="2819520"/>
            <a:ext cx="457200" cy="457200"/>
          </a:xfrm>
          <a:prstGeom prst="ellipse">
            <a:avLst/>
          </a:prstGeom>
          <a:solidFill>
            <a:srgbClr val="114ff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886200" y="4191120"/>
            <a:ext cx="457200" cy="457200"/>
          </a:xfrm>
          <a:prstGeom prst="ellipse">
            <a:avLst/>
          </a:prstGeom>
          <a:solidFill>
            <a:srgbClr val="114ff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O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886200" y="3505320"/>
            <a:ext cx="457200" cy="457200"/>
          </a:xfrm>
          <a:prstGeom prst="ellipse">
            <a:avLst/>
          </a:prstGeom>
          <a:solidFill>
            <a:srgbClr val="114ff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" y="2819520"/>
            <a:ext cx="457200" cy="457200"/>
          </a:xfrm>
          <a:prstGeom prst="ellipse">
            <a:avLst/>
          </a:prstGeom>
          <a:solidFill>
            <a:srgbClr val="114ff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Arial"/>
              </a:rPr>
              <a:t>U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" y="5334120"/>
            <a:ext cx="457200" cy="457200"/>
          </a:xfrm>
          <a:prstGeom prst="ellipse">
            <a:avLst/>
          </a:prstGeom>
          <a:solidFill>
            <a:srgbClr val="114ff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Arial"/>
              </a:rPr>
              <a:t>K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28600" y="3530520"/>
            <a:ext cx="457200" cy="457200"/>
          </a:xfrm>
          <a:prstGeom prst="ellipse">
            <a:avLst/>
          </a:prstGeom>
          <a:solidFill>
            <a:srgbClr val="114ff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Arial"/>
              </a:rPr>
              <a:t>Q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600" y="4241880"/>
            <a:ext cx="457200" cy="457200"/>
          </a:xfrm>
          <a:prstGeom prst="ellipse">
            <a:avLst/>
          </a:prstGeom>
          <a:solidFill>
            <a:srgbClr val="114ff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Arial"/>
              </a:rPr>
              <a:t>CS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80880" y="1523880"/>
            <a:ext cx="2057400" cy="914400"/>
          </a:xfrm>
          <a:prstGeom prst="roundRect">
            <a:avLst>
              <a:gd name="adj" fmla="val 16667"/>
            </a:avLst>
          </a:prstGeom>
          <a:solidFill>
            <a:srgbClr val="eaec5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Stage 1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733920" y="1523880"/>
            <a:ext cx="2057400" cy="914400"/>
          </a:xfrm>
          <a:prstGeom prst="roundRect">
            <a:avLst>
              <a:gd name="adj" fmla="val 16667"/>
            </a:avLst>
          </a:prstGeom>
          <a:solidFill>
            <a:srgbClr val="eaec5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Stage 2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858000" y="1523880"/>
            <a:ext cx="2057400" cy="914400"/>
          </a:xfrm>
          <a:prstGeom prst="roundRect">
            <a:avLst>
              <a:gd name="adj" fmla="val 16667"/>
            </a:avLst>
          </a:prstGeom>
          <a:solidFill>
            <a:srgbClr val="eaec5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Stage 3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60760" y="2818800"/>
            <a:ext cx="25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nderstand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839160" y="3518640"/>
            <a:ext cx="168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839880" y="4114440"/>
            <a:ext cx="1744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t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tandar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838080" y="5301720"/>
            <a:ext cx="2254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nowledg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&amp; Sk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57240" y="2832840"/>
            <a:ext cx="130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ask(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4160" y="3518640"/>
            <a:ext cx="162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ubric(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3800" y="4235040"/>
            <a:ext cx="1561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391520" y="2742840"/>
            <a:ext cx="1600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ear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04920" y="2209680"/>
            <a:ext cx="883908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500"/>
                            </p:stCondLst>
                            <p:childTnLst>
                              <p:par>
                                <p:cTn id="76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3000"/>
                            </p:stCondLst>
                            <p:childTnLst>
                              <p:par>
                                <p:cTn id="81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4500"/>
                            </p:stCondLst>
                            <p:childTnLst>
                              <p:par>
                                <p:cTn id="86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6000"/>
                            </p:stCondLst>
                            <p:childTnLst>
                              <p:par>
                                <p:cTn id="91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7500"/>
                            </p:stCondLst>
                            <p:childTnLst>
                              <p:par>
                                <p:cTn id="96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9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0500"/>
                            </p:stCondLst>
                            <p:childTnLst>
                              <p:par>
                                <p:cTn id="106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33520" y="218880"/>
            <a:ext cx="7758000" cy="115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0ff"/>
                </a:solidFill>
                <a:latin typeface="Arial"/>
              </a:rPr>
              <a:t>Not necessary to fill in the template “in order”</a:t>
            </a:r>
            <a:endParaRPr b="0" lang="en-US" sz="4400" spc="-1" strike="noStrike">
              <a:solidFill>
                <a:srgbClr val="4040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47200" y="1676160"/>
            <a:ext cx="813924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a50021"/>
                </a:solidFill>
                <a:latin typeface="Book Antiqua"/>
              </a:rPr>
              <a:t>There are many ‘doorways’ into successful design – you can start with...</a:t>
            </a:r>
            <a:endParaRPr b="1" i="1" lang="en-US" sz="3200" spc="-1" strike="noStrike">
              <a:solidFill>
                <a:srgbClr val="a50021"/>
              </a:solidFill>
              <a:latin typeface="Book Antiqua"/>
            </a:endParaRPr>
          </a:p>
          <a:p>
            <a:pPr lvl="1" marL="741600" indent="-28872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Content standards</a:t>
            </a:r>
            <a:endParaRPr b="1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1600" indent="-28872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Performance goals</a:t>
            </a:r>
            <a:endParaRPr b="1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1600" indent="-28872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A key resource or activity</a:t>
            </a:r>
            <a:endParaRPr b="1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1600" indent="-28872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A required assessment</a:t>
            </a:r>
            <a:endParaRPr b="1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1600" indent="-28872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A big idea, often misunderstood</a:t>
            </a:r>
            <a:endParaRPr b="1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1600" indent="-28872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An important skill or process</a:t>
            </a:r>
            <a:endParaRPr b="1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1600" indent="-28872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An existing unit or lesson to edit</a:t>
            </a:r>
            <a:endParaRPr b="1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7162920" y="152280"/>
            <a:ext cx="1371600" cy="1524960"/>
            <a:chOff x="7162920" y="152280"/>
            <a:chExt cx="1371600" cy="1524960"/>
          </a:xfrm>
        </p:grpSpPr>
        <p:sp>
          <p:nvSpPr>
            <p:cNvPr id="204" name=""/>
            <p:cNvSpPr/>
            <p:nvPr/>
          </p:nvSpPr>
          <p:spPr>
            <a:xfrm>
              <a:off x="7162920" y="152280"/>
              <a:ext cx="1371600" cy="1295280"/>
            </a:xfrm>
            <a:prstGeom prst="triangle">
              <a:avLst>
                <a:gd name="adj" fmla="val 50000"/>
              </a:avLst>
            </a:prstGeom>
            <a:solidFill>
              <a:srgbClr val="ffff66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610760" y="242640"/>
              <a:ext cx="48096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800" spc="-1" strike="noStrike">
                  <a:solidFill>
                    <a:srgbClr val="000000"/>
                  </a:solidFill>
                  <a:latin typeface="AGaramond Bold"/>
                </a:rPr>
                <a:t>!</a:t>
              </a:r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206" name=""/>
          <p:cNvGraphicFramePr/>
          <p:nvPr/>
        </p:nvGraphicFramePr>
        <p:xfrm>
          <a:off x="7467480" y="2362320"/>
          <a:ext cx="1308240" cy="3949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467480" y="2362320"/>
                    <a:ext cx="1308240" cy="394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dissolve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33520" y="218880"/>
            <a:ext cx="7758000" cy="115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0ff"/>
                </a:solidFill>
                <a:latin typeface="Arial"/>
              </a:rPr>
              <a:t>Exchange featrues provide other entry points</a:t>
            </a:r>
            <a:endParaRPr b="0" lang="en-US" sz="4400" spc="-1" strike="noStrike">
              <a:solidFill>
                <a:srgbClr val="4040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47560" y="1676520"/>
            <a:ext cx="7986960" cy="420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a50021"/>
                </a:solidFill>
                <a:latin typeface="Book Antiqua"/>
              </a:rPr>
              <a:t>You can –</a:t>
            </a:r>
            <a:endParaRPr b="1" i="1" lang="en-US" sz="3600" spc="-1" strike="noStrike">
              <a:solidFill>
                <a:srgbClr val="a50021"/>
              </a:solidFill>
              <a:latin typeface="Book Antiqua"/>
            </a:endParaRPr>
          </a:p>
          <a:p>
            <a:pPr lvl="1" marL="726480" indent="-282960">
              <a:spcBef>
                <a:spcPts val="700"/>
              </a:spcBef>
              <a:buClr>
                <a:srgbClr val="0000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Search for, find, and attach other designers’ essential questions and understandings to your own unit</a:t>
            </a:r>
            <a:endParaRPr b="1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26480" indent="-282960">
              <a:spcBef>
                <a:spcPts val="700"/>
              </a:spcBef>
              <a:buClr>
                <a:srgbClr val="0000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Use the web links provided to find ideas on relevant sites for each design element</a:t>
            </a:r>
            <a:endParaRPr b="1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26480" indent="-282960">
              <a:spcBef>
                <a:spcPts val="700"/>
              </a:spcBef>
              <a:buClr>
                <a:srgbClr val="0000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Study exemplary units and adapt them to your own needs and interests</a:t>
            </a:r>
            <a:endParaRPr b="1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152280" y="2133720"/>
            <a:ext cx="838440" cy="4038480"/>
          </a:xfrm>
          <a:custGeom>
            <a:avLst/>
            <a:gdLst>
              <a:gd name="textAreaLeft" fmla="*/ 112320 w 838440"/>
              <a:gd name="textAreaRight" fmla="*/ 726120 w 838440"/>
              <a:gd name="textAreaTop" fmla="*/ 706680 h 4038480"/>
              <a:gd name="textAreaBottom" fmla="*/ 2927880 h 4038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4cc34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rot="10800000">
            <a:off x="8001000" y="1905120"/>
            <a:ext cx="838080" cy="4038480"/>
          </a:xfrm>
          <a:custGeom>
            <a:avLst/>
            <a:gdLst>
              <a:gd name="textAreaLeft" fmla="*/ 112320 w 838080"/>
              <a:gd name="textAreaRight" fmla="*/ 725760 w 838080"/>
              <a:gd name="textAreaTop" fmla="*/ 706680 h 4038480"/>
              <a:gd name="textAreaBottom" fmla="*/ 2927880 h 4038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4cc34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33520" y="218880"/>
            <a:ext cx="7758000" cy="115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0ff"/>
                </a:solidFill>
                <a:latin typeface="Arial"/>
              </a:rPr>
              <a:t>Misconception Alert:</a:t>
            </a:r>
            <a:br>
              <a:rPr sz="4400"/>
            </a:br>
            <a:r>
              <a:rPr b="0" lang="en-US" sz="4400" spc="-1" strike="noStrike">
                <a:solidFill>
                  <a:srgbClr val="4040ff"/>
                </a:solidFill>
                <a:latin typeface="Arial"/>
              </a:rPr>
              <a:t>the work is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n</a:t>
            </a:r>
            <a:r>
              <a:rPr b="0" lang="en-US" sz="4400" spc="-1" strike="noStrike">
                <a:solidFill>
                  <a:srgbClr val="4040ff"/>
                </a:solidFill>
                <a:latin typeface="Arial"/>
              </a:rPr>
              <a:t>-linear</a:t>
            </a:r>
            <a:endParaRPr b="0" lang="en-US" sz="4400" spc="-1" strike="noStrike">
              <a:solidFill>
                <a:srgbClr val="4040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47560" y="1676520"/>
            <a:ext cx="7986960" cy="420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a50021"/>
                </a:solidFill>
                <a:latin typeface="Book Antiqua"/>
              </a:rPr>
              <a:t>It doesn’t matter where you start as long as the final design is coherent (all elements aligned)</a:t>
            </a:r>
            <a:r>
              <a:rPr b="1" i="1" lang="en-US" sz="3200" spc="-1" strike="noStrike">
                <a:solidFill>
                  <a:srgbClr val="a50021"/>
                </a:solidFill>
                <a:latin typeface="Book Antiqua"/>
              </a:rPr>
              <a:t> </a:t>
            </a:r>
            <a:endParaRPr b="1" i="1" lang="en-US" sz="3200" spc="-1" strike="noStrike">
              <a:solidFill>
                <a:srgbClr val="a50021"/>
              </a:solidFill>
              <a:latin typeface="Book Antiqua"/>
            </a:endParaRPr>
          </a:p>
          <a:p>
            <a:pPr lvl="1" marL="673920" indent="-26244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Clarifying one element or Stage often forces changes to another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element or Stage</a:t>
            </a:r>
            <a:endParaRPr b="1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673920" indent="-26244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The template “blueprint” is logical but the process is non-linear (think: home improvement!)</a:t>
            </a:r>
            <a:endParaRPr b="1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673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7162920" y="152280"/>
            <a:ext cx="1371600" cy="1524960"/>
            <a:chOff x="7162920" y="152280"/>
            <a:chExt cx="1371600" cy="1524960"/>
          </a:xfrm>
        </p:grpSpPr>
        <p:sp>
          <p:nvSpPr>
            <p:cNvPr id="215" name=""/>
            <p:cNvSpPr/>
            <p:nvPr/>
          </p:nvSpPr>
          <p:spPr>
            <a:xfrm>
              <a:off x="7162920" y="152280"/>
              <a:ext cx="1371600" cy="1295280"/>
            </a:xfrm>
            <a:prstGeom prst="triangle">
              <a:avLst>
                <a:gd name="adj" fmla="val 50000"/>
              </a:avLst>
            </a:prstGeom>
            <a:solidFill>
              <a:srgbClr val="ffff66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610760" y="242640"/>
              <a:ext cx="48096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800" spc="-1" strike="noStrike">
                  <a:solidFill>
                    <a:srgbClr val="000000"/>
                  </a:solidFill>
                  <a:latin typeface="AGaramond Bold"/>
                </a:rPr>
                <a:t>!</a:t>
              </a:r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14T15:13:42Z</dcterms:created>
  <dc:creator>Grant Wiggins</dc:creator>
  <dc:description/>
  <dc:language>en-US</dc:language>
  <cp:lastModifiedBy>Jeanette Gordon</cp:lastModifiedBy>
  <cp:lastPrinted>2002-03-11T16:47:29Z</cp:lastPrinted>
  <dcterms:modified xsi:type="dcterms:W3CDTF">2005-08-22T20:26:11Z</dcterms:modified>
  <cp:revision>568</cp:revision>
  <dc:subject/>
  <dc:title>Understanding by Design:</dc:title>
</cp:coreProperties>
</file>